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E4EF-122D-42AC-8E09-94A986DB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A7B4-E747-4D7D-BA7A-7A6D64DF9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8F12-8B95-49C0-B8F4-D17D0DC0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146C-8D37-41B4-A92A-F575FD9D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8A0-619B-4E12-9705-EB91FC2A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F45-517C-452C-9B24-49F8A212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9061-4486-4911-8173-8EC7FE862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2D76-50F5-48C8-BB29-474F3530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7D2D-B63F-401B-8CC7-EDA1EB65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FA82-7D4E-44C1-ACF7-9706FAFC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1861-9B62-446F-BD93-04525337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5FAD-DFB3-43D2-994D-838EE1DB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262D-F940-49C0-8DF4-E05C53753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ãÈå×ãcáäoÂB ãÌÇåcáäoÂB ãÐäÃÂB ãÈåtãQ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106-B061-4AC1-BD65-6EBCD667A2F6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æÚåÖãÒá¦ CáÏå×ã¶ âÐá¯ãäXáÇâW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and cause him to live in it for a long time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FC60-D94C-42DB-A851-C1BC55537F0D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ãnåÒâÆÛB áoãäQákâÆ CáÖ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O One who directs all the affair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BF6A-7187-4E9B-BF66-E5FD57C1A108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ãnåÒâRâ»åÂB Øã¶ åÌáÆ á]ã®CáQ CáÖ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O One who will raise those who are in the grave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568C-04E2-4FAB-BAAA-06A7D118F741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ãnåÒâdâRåÂB áÕãoå`âÆ CáÖ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O One who makes the rivers flow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EBD-C988-45EB-9169-F2F2BD2A8CD7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ájâÑBákãÂ ãkåÖãkádåÂB áÌãä×áÃâÆ CáÖ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O One who softened the iron for Dawú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3494-F7B1-47D6-8978-4534AD949649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èkáäÇádâÆ ãÁB áäÑ èkáäÇádâÆ ÔÃá® ãäÄá{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Bless Muhammad and the family of Muhammad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40E-3322-4C51-9A15-F34967A0A8FC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Karbala"/>
              </a:rPr>
              <a:t>ãUáÃå×áäÂB ãUáÃå×áäÂB ... ØãQ åÄá¯å¶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l-Arial"/>
                <a:ea typeface="MS Mincho"/>
              </a:rPr>
              <a:t>and do for me ... (ask for your wishes)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l-Arial"/>
                <a:ea typeface="MS Mincho"/>
              </a:rPr>
              <a:t>in this night, this night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6B75-CD39-44D9-AFFA-0FCD7B68FD2A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l-Arial"/>
                <a:ea typeface="MS Mincho"/>
              </a:rPr>
              <a:t>O Alláh bless Muhammad and the family of Muhamma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D948-F676-4273-A8A3-E2C61F8C088E}" type="slidenum">
              <a:t>17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l-Arial"/>
                <a:ea typeface="MS Mincho"/>
              </a:rPr>
              <a:t>O Alláh bless Muhammad and the family of Muhamma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1E10-2856-4962-8C13-A052238B9F10}" type="slidenum">
              <a:t>2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Karbala"/>
              </a:rPr>
              <a:t>ãÌátádåÂB ãÌåQ ãUáä`âdåÂB áÀãä×ãÂáÒãÂ åÌâ¾ áäÈâÏäÃÂá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l-Arial"/>
                <a:ea typeface="MS Mincho"/>
              </a:rPr>
              <a:t>O Alláh, be, for Your representativ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Al-Arial"/>
                <a:ea typeface="MS Mincho"/>
              </a:rPr>
              <a:t>the hujjat (proof), son of al­hasa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5B6C-A05D-4076-BAE1-AF3C42997A2E}" type="slidenum">
              <a:t>3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ãÐãMEáQB ÔÃá® áÑ ãÐå×áÃá® áÀâWÒáÃá{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Your blessings be on him and his forefather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96C7-2BA5-48D5-B996-FBC9C5FB5715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ãUá®CáätÂB ãäÄâ¾ Øã¶ áÑ ãUá®CáätÂB ãÍãmÎ Øã¶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in this hour and in every hour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EA95-8285-4D03-9749-0ABD4FBAF766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Cæ«ã¶Các áäÑ Cæä×ãÂ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a guardian, a protector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DBB6-E3B8-4F79-9EB2-3F33E96305DD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Bæoã{CáÊ áÑ BækãMCáº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a leader, a helper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B0A2-D778-4844-A4D0-862FF9CCB806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CæËå×á® áäÑ æÚå×ãÂáj áä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a proof, and an ey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18DC-FC40-4799-9EDA-1C68D01E35D4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Karbala"/>
              </a:rPr>
              <a:t>Cæ®åÒá¦ áÀá¢ånáB âÐáËã¿åtâW ÔäXác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Al-Arial"/>
                <a:ea typeface="MS Mincho"/>
              </a:rPr>
              <a:t>until You make him live on the earth, in obedience (to You)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BE55-EBBB-446E-B191-DABCB18AEF2D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MOHAMEDRAZA JANMOHAMED</cp:lastModifiedBy>
  <dcterms:modified xsi:type="dcterms:W3CDTF">2001-12-08T07:35:09Z</dcterms:modified>
  <cp:revision>59</cp:revision>
  <dc:subject/>
  <dc:title>Du`a for Protection of Imam Mahdi</dc:title>
</cp:coreProperties>
</file>