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2FB-7E13-49F9-B970-9F37D7F2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E4D-C460-4801-BD00-62BB965E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307-9F58-486F-BCF2-FB28E0BC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182-D1FC-4AAF-82B8-1D7C9AD3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DBF-E0F7-4A08-9211-83C13E49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B2D-E1C0-4C96-98B0-A8646102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47B-4EF5-4D71-B5DD-DEBAE25C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AFE-B85C-4A0B-803E-4481D792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414-E1C8-43AC-B23C-F89D6D2B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343-534C-43F9-82C8-D71722C0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D91-4903-4D2F-B91E-381635D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043-DA29-44AB-ACD1-B135859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8994-E757-48FF-B21E-51FE620FC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Èå×ãcáäoÂB ãÌÇåcáäoÂB ãÐäÃÂB ãÈåtãQ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689-04A9-44D6-9133-327ED5CDE513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æÚåÖãÒá¦ CáÏå×ã¶ âÐá¯ãäXáÇâ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nd cause him to live in it for a long ti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DB3-3A87-4863-A8A4-A15137EB23C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ÆÛB áoãäQák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directs all the affair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E14-E774-45BA-A282-FF3DC3C9B8A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Râ»åÂB Øã¶ åÌáÆ á]ã®CáQ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will raise those who are in the grave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BE4-1F2A-4D20-90D9-CFBE75D9A6B9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dâRåÂB áÕãoå`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makes the rivers fl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6CB-2A75-4526-93FA-90828C425543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ájâÑBákãÂ ãkåÖãkádåÂB áÌãä×áÃ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softened the iron for Dawú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895-6FEA-42BE-9B14-98F3842F8CDF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Bless Muhammad and the family of Muhamma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27D-1C32-4B53-AC0B-C377FAD47F7E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ãUáÃå×áäÂB ãUáÃå×áäÂB ... ØãQ åÄá¯å¶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and do for me ... (ask for your wishes)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in this night, this nigh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1C8-ACF8-4027-BDA0-85C27A3BCB76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961-02BB-4B77-A3C2-4185C7077511}" type="slidenum">
              <a:t>17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9F9-36E0-4DB9-B008-895A8D752109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ãÌátádåÂB ãÌåQ ãUáä`âdåÂB áÀãä×ãÂáÒãÂ åÌâ¾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, be, for Your representati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the hujjat (proof), son of al­hasa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B28-834F-471E-93D8-2BE532862128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ÐãMEáQB ÔÃá® áÑ ãÐå×áÃá® áÀâWÒáÃá{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Your blessings be on him and his forefather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A20-6490-4F23-BB35-5F7314C99C16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Uá®CáätÂB ãäÄâ¾ Øã¶ áÑ ãUá®CáätÂB ãÍãmÎ Øã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in this hour and in every hou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880-400F-4D5C-99CA-7FD2AD64EDDE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«ã¶Các áäÑ Cæä×ãÂ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guardian, a protecto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0BB-0F56-43C3-A90B-0E61F8A8BE4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Bæoã{CáÊ áÑ BækãMCá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leader, a helpe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6DD-EC71-4271-B9A9-31235961DCA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Ëå×á® áäÑ æÚå×ãÂáj áä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proof, and an ey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845-CDF7-4F4F-A6DA-F2510CE7F32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®åÒá¦ áÀá¢ånáB âÐáËã¿åtâW ÔäXác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until You make him live on the earth, in obedience (to You)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2E1-D019-40FA-976F-AF9956F6317D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MOHAMEDRAZA JANMOHAMED</cp:lastModifiedBy>
  <dcterms:modified xsi:type="dcterms:W3CDTF">2001-12-08T07:35:09Z</dcterms:modified>
  <cp:revision>59</cp:revision>
  <dc:subject/>
  <dc:title>Du`a for Protection of Imam Mahdi</dc:title>
</cp:coreProperties>
</file>