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74A-C4C0-484D-BA1C-BD3948B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7D3-578F-4F10-81E4-BE20D5C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0D7-54C7-4221-82CE-103CED70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958-1E26-4650-8335-AD5F63FE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D5C-C0B5-4EDA-9B6A-7DA6FE16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0A0-1A5C-4F0A-9E32-4C91A4C0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00E-CC2C-47B1-8BC9-9486143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93B-0B21-489B-A09D-D6B87C9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E99-4806-4FF1-B61D-3596D7B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2AA-8B36-401C-9C9B-D5854FA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5A2-688F-4804-95AD-9EA7A78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C1A-6F68-4AAE-A5E2-60FC7E30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3D90-507F-4DD1-9314-B8BE760FB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8BC-515D-4E16-88BD-AB6CDA4E0508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æÚåÖãÒá¦ CáÏå×ã¶ âÐá¯ãäXáÇâ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nd cause him to live in it for a long ti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617-8772-4FFF-A553-D4A3E4FB990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ÆÛB áoãäQák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directs all the affai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750-4E6C-4F29-8325-8E86B214639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Râ»åÂB Øã¶ åÌáÆ á]ã®CáQ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will raise those who are in the grave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F0B-D75E-41F5-811E-84DCBAEC155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dâRåÂB áÕãoå`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makes the rivers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3AA-393D-43D8-9F9A-9403F2B127C9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ájâÑBákãÂ ãkåÖãkádåÂB áÌãä×áÃ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softened the iron for Dawú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650-7E1A-44B4-B4F1-4887D94B798A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Bless Muhammad and the family of Muhamma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C19-1B0E-494E-960A-39BE1F4E0F0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UáÃå×áäÂB ãUáÃå×áäÂB ... ØãQ åÄá¯å¶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and do for me ... (ask for your wishes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in this night, this n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D4A-E2DE-4719-B348-593363803A2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0CD-2662-4947-A368-8749BE67EA91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93D-EECE-40AC-ABB9-B6B353953BF8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ÌátádåÂB ãÌåQ ãUáä`âdåÂB áÀãä×ãÂáÒãÂ åÌâ¾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, be, for Your representati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the hujjat (proof), son of al­hasa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BEA-6AC9-4629-93A4-B5AA5265D58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ÐãMEáQB ÔÃá® áÑ ãÐå×áÃá® áÀâWÒáÃ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Your blessings be on him and his forefathe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562-61BD-4C21-B5C1-95E8F17134D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Uá®CáätÂB ãäÄâ¾ Øã¶ áÑ ãUá®CáätÂB ãÍãmÎ Øã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is hour and in every h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16F-55CE-460C-95FA-8D5D5CC783D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«ã¶Các áäÑ Cæä×ãÂ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guardian, a protecto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664-8553-4D68-80A8-E9D600C2FD5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Bæoã{CáÊ áÑ BækãMC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leader, a hel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6E-511C-4637-B5FB-17632380E02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Ëå×á® áäÑ æÚå×ãÂáj áä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proof, and an ey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C72-A205-4434-B588-A51B30F45FC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®åÒá¦ áÀá¢ånáB âÐáËã¿åtâW ÔäXá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until You make him live on the earth, in obedience (to You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0FD-1A5C-4F88-B16B-9643E7EAC6AD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MOHAMEDRAZA JANMOHAMED</cp:lastModifiedBy>
  <dcterms:modified xsi:type="dcterms:W3CDTF">2001-12-08T07:35:09Z</dcterms:modified>
  <cp:revision>59</cp:revision>
  <dc:subject/>
  <dc:title>Du`a for Protection of Imam Mahdi</dc:title>
</cp:coreProperties>
</file>