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20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200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2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19.xml.rels" ContentType="application/vnd.openxmlformats-package.relationships+xml"/>
  <Override PartName="/ppt/slides/_rels/slide163.xml.rels" ContentType="application/vnd.openxmlformats-package.relationships+xml"/>
  <Override PartName="/ppt/slides/_rels/slide86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08.xml.rels" ContentType="application/vnd.openxmlformats-package.relationships+xml"/>
  <Override PartName="/ppt/slides/_rels/slide152.xml.rels" ContentType="application/vnd.openxmlformats-package.relationships+xml"/>
  <Override PartName="/ppt/slides/_rels/slide75.xml.rels" ContentType="application/vnd.openxmlformats-package.relationships+xml"/>
  <Override PartName="/ppt/slides/_rels/slide180.xml.rels" ContentType="application/vnd.openxmlformats-package.relationships+xml"/>
  <Override PartName="/ppt/slides/_rels/slide6.xml.rels" ContentType="application/vnd.openxmlformats-package.relationships+xml"/>
  <Override PartName="/ppt/slides/_rels/slide176.xml.rels" ContentType="application/vnd.openxmlformats-package.relationships+xml"/>
  <Override PartName="/ppt/slides/_rels/slide99.xml.rels" ContentType="application/vnd.openxmlformats-package.relationships+xml"/>
  <Override PartName="/ppt/slides/_rels/slide2.xml.rels" ContentType="application/vnd.openxmlformats-package.relationships+xml"/>
  <Override PartName="/ppt/slides/_rels/slide168.xml.rels" ContentType="application/vnd.openxmlformats-package.relationships+xml"/>
  <Override PartName="/ppt/slides/_rels/slide40.xml.rels" ContentType="application/vnd.openxmlformats-package.relationships+xml"/>
  <Override PartName="/ppt/slides/_rels/slide177.xml.rels" ContentType="application/vnd.openxmlformats-package.relationships+xml"/>
  <Override PartName="/ppt/slides/_rels/slide3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182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124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13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216.xml.rels" ContentType="application/vnd.openxmlformats-package.relationships+xml"/>
  <Override PartName="/ppt/slides/_rels/slide113.xml.rels" ContentType="application/vnd.openxmlformats-package.relationships+xml"/>
  <Override PartName="/ppt/slides/_rels/slide12.xml.rels" ContentType="application/vnd.openxmlformats-package.relationships+xml"/>
  <Override PartName="/ppt/slides/_rels/slide18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5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144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2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217.xml.rels" ContentType="application/vnd.openxmlformats-package.relationships+xml"/>
  <Override PartName="/ppt/slides/_rels/slide114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44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6.xml.rels" ContentType="application/vnd.openxmlformats-package.relationships+xml"/>
  <Override PartName="/ppt/slides/_rels/slide5.xml.rels" ContentType="application/vnd.openxmlformats-package.relationships+xml"/>
  <Override PartName="/ppt/slides/_rels/slide135.xml.rels" ContentType="application/vnd.openxmlformats-package.relationships+xml"/>
  <Override PartName="/ppt/slides/_rels/slide145.xml.rels" ContentType="application/vnd.openxmlformats-package.relationships+xml"/>
  <Override PartName="/ppt/slides/_rels/slide84.xml.rels" ContentType="application/vnd.openxmlformats-package.relationships+xml"/>
  <Override PartName="/ppt/slides/_rels/slide161.xml.rels" ContentType="application/vnd.openxmlformats-package.relationships+xml"/>
  <Override PartName="/ppt/slides/_rels/slide117.xml.rels" ContentType="application/vnd.openxmlformats-package.relationships+xml"/>
  <Override PartName="/ppt/slides/_rels/slide31.xml.rels" ContentType="application/vnd.openxmlformats-package.relationships+xml"/>
  <Override PartName="/ppt/slides/_rels/slide211.xml.rels" ContentType="application/vnd.openxmlformats-package.relationships+xml"/>
  <Override PartName="/ppt/slides/_rels/slide159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1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8.xml.rels" ContentType="application/vnd.openxmlformats-package.relationships+xml"/>
  <Override PartName="/ppt/slides/_rels/slide202.xml.rels" ContentType="application/vnd.openxmlformats-package.relationships+xml"/>
  <Override PartName="/ppt/slides/_rels/slide22.xml.rels" ContentType="application/vnd.openxmlformats-package.relationships+xml"/>
  <Override PartName="/ppt/slides/_rels/slide194.xml.rels" ContentType="application/vnd.openxmlformats-package.relationships+xml"/>
  <Override PartName="/ppt/slides/_rels/slide50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45.xml.rels" ContentType="application/vnd.openxmlformats-package.relationships+xml"/>
  <Override PartName="/ppt/slides/_rels/slide160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170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218.xml.rels" ContentType="application/vnd.openxmlformats-package.relationships+xml"/>
  <Override PartName="/ppt/slides/_rels/slide132.xml.rels" ContentType="application/vnd.openxmlformats-package.relationships+xml"/>
  <Override PartName="/ppt/slides/_rels/slide122.xml.rels" ContentType="application/vnd.openxmlformats-package.relationships+xml"/>
  <Override PartName="/ppt/slides/_rels/slide66.xml.rels" ContentType="application/vnd.openxmlformats-package.relationships+xml"/>
  <Override PartName="/ppt/slides/_rels/slide17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6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219.xml.rels" ContentType="application/vnd.openxmlformats-package.relationships+xml"/>
  <Override PartName="/ppt/slides/_rels/slide133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206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78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39.xml.rels" ContentType="application/vnd.openxmlformats-package.relationships+xml"/>
  <Override PartName="/ppt/slides/_rels/slide116.xml.rels" ContentType="application/vnd.openxmlformats-package.relationships+xml"/>
  <Override PartName="/ppt/slides/_rels/slide83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94.xml.rels" ContentType="application/vnd.openxmlformats-package.relationships+xml"/>
  <Override PartName="/ppt/slides/_rels/slide127.xml.rels" ContentType="application/vnd.openxmlformats-package.relationships+xml"/>
  <Override PartName="/ppt/slides/_rels/slide131.xml.rels" ContentType="application/vnd.openxmlformats-package.relationships+xml"/>
  <Override PartName="/ppt/slides/_rels/slide19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53.xml.rels" ContentType="application/vnd.openxmlformats-package.relationships+xml"/>
  <Override PartName="/ppt/slides/_rels/slide123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8.xml.rels" ContentType="application/vnd.openxmlformats-package.relationships+xml"/>
  <Override PartName="/ppt/slides/_rels/slide142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208.xml.rels" ContentType="application/vnd.openxmlformats-package.relationships+xml"/>
  <Override PartName="/ppt/slides/_rels/slide28.xml.rels" ContentType="application/vnd.openxmlformats-package.relationships+xml"/>
  <Override PartName="/ppt/slides/_rels/slide209.xml.rels" ContentType="application/vnd.openxmlformats-package.relationships+xml"/>
  <Override PartName="/ppt/slides/_rels/slide2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207.xml.rels" ContentType="application/vnd.openxmlformats-package.relationships+xml"/>
  <Override PartName="/ppt/slides/_rels/slide199.xml.rels" ContentType="application/vnd.openxmlformats-package.relationships+xml"/>
  <Override PartName="/ppt/slides/_rels/slide27.xml.rels" ContentType="application/vnd.openxmlformats-package.relationships+xml"/>
  <Override PartName="/ppt/slides/_rels/slide149.xml.rels" ContentType="application/vnd.openxmlformats-package.relationships+xml"/>
  <Override PartName="/ppt/slides/_rels/slide195.xml.rels" ContentType="application/vnd.openxmlformats-package.relationships+xml"/>
  <Override PartName="/ppt/slides/_rels/slide23.xml.rels" ContentType="application/vnd.openxmlformats-package.relationships+xml"/>
  <Override PartName="/ppt/slides/_rels/slide203.xml.rels" ContentType="application/vnd.openxmlformats-package.relationships+xml"/>
  <Override PartName="/ppt/slides/_rels/slide100.xml.rels" ContentType="application/vnd.openxmlformats-package.relationships+xml"/>
  <Override PartName="/ppt/slides/_rels/slide30.xml.rels" ContentType="application/vnd.openxmlformats-package.relationships+xml"/>
  <Override PartName="/ppt/slides/_rels/slide158.xml.rels" ContentType="application/vnd.openxmlformats-package.relationships+xml"/>
  <Override PartName="/ppt/slides/_rels/slide210.xml.rels" ContentType="application/vnd.openxmlformats-package.relationships+xml"/>
  <Override PartName="/ppt/slides/_rels/slide156.xml.rels" ContentType="application/vnd.openxmlformats-package.relationships+xml"/>
  <Override PartName="/ppt/slides/_rels/slide198.xml.rels" ContentType="application/vnd.openxmlformats-package.relationships+xml"/>
  <Override PartName="/ppt/slides/_rels/slide70.xml.rels" ContentType="application/vnd.openxmlformats-package.relationships+xml"/>
  <Override PartName="/ppt/slides/_rels/slide103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205.xml.rels" ContentType="application/vnd.openxmlformats-package.relationships+xml"/>
  <Override PartName="/ppt/slides/_rels/slide102.xml.rels" ContentType="application/vnd.openxmlformats-package.relationships+xml"/>
  <Override PartName="/ppt/slides/_rels/slide25.xml.rels" ContentType="application/vnd.openxmlformats-package.relationships+xml"/>
  <Override PartName="/ppt/slides/_rels/slide197.xml.rels" ContentType="application/vnd.openxmlformats-package.relationships+xml"/>
  <Override PartName="/ppt/slides/_rels/slide204.xml.rels" ContentType="application/vnd.openxmlformats-package.relationships+xml"/>
  <Override PartName="/ppt/slides/_rels/slide101.xml.rels" ContentType="application/vnd.openxmlformats-package.relationships+xml"/>
  <Override PartName="/ppt/slides/_rels/slide24.xml.rels" ContentType="application/vnd.openxmlformats-package.relationships+xml"/>
  <Override PartName="/ppt/slides/_rels/slide196.xml.rels" ContentType="application/vnd.openxmlformats-package.relationships+xml"/>
  <Override PartName="/ppt/slides/_rels/slide179.xml.rels" ContentType="application/vnd.openxmlformats-package.relationships+xml"/>
  <Override PartName="/ppt/slides/_rels/slide178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51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30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95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25.xml" ContentType="application/vnd.openxmlformats-officedocument.presentationml.slide+xml"/>
  <Override PartName="/ppt/slides/slide68.xml" ContentType="application/vnd.openxmlformats-officedocument.presentationml.slide+xml"/>
  <Override PartName="/ppt/slides/slide16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24.xml" ContentType="application/vnd.openxmlformats-officedocument.presentationml.slide+xml"/>
  <Override PartName="/ppt/slides/slide67.xml" ContentType="application/vnd.openxmlformats-officedocument.presentationml.slide+xml"/>
  <Override PartName="/ppt/slides/slide163.xml" ContentType="application/vnd.openxmlformats-officedocument.presentationml.slide+xml"/>
  <Override PartName="/ppt/slides/slide66.xml" ContentType="application/vnd.openxmlformats-officedocument.presentationml.slide+xml"/>
  <Override PartName="/ppt/slides/slide162.xml" ContentType="application/vnd.openxmlformats-officedocument.presentationml.slide+xml"/>
  <Override PartName="/ppt/slides/slide65.xml" ContentType="application/vnd.openxmlformats-officedocument.presentationml.slide+xml"/>
  <Override PartName="/ppt/slides/slide161.xml" ContentType="application/vnd.openxmlformats-officedocument.presentationml.slide+xml"/>
  <Override PartName="/ppt/slides/slide64.xml" ContentType="application/vnd.openxmlformats-officedocument.presentationml.slide+xml"/>
  <Override PartName="/ppt/slides/slide160.xml" ContentType="application/vnd.openxmlformats-officedocument.presentationml.slide+xml"/>
  <Override PartName="/ppt/slides/slide63.xml" ContentType="application/vnd.openxmlformats-officedocument.presentationml.slide+xml"/>
  <Override PartName="/ppt/slides/slide62.xml" ContentType="application/vnd.openxmlformats-officedocument.presentationml.slide+xml"/>
  <Override PartName="/ppt/slides/slide61.xml" ContentType="application/vnd.openxmlformats-officedocument.presentationml.slide+xml"/>
  <Override PartName="/ppt/slides/slide60.xml" ContentType="application/vnd.openxmlformats-officedocument.presentationml.slide+xml"/>
  <Override PartName="/ppt/slides/slide91.xml" ContentType="application/vnd.openxmlformats-officedocument.presentationml.slide+xml"/>
  <Override PartName="/ppt/slides/slide23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53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46.xml" ContentType="application/vnd.openxmlformats-officedocument.presentationml.slide+xml"/>
  <Override PartName="/ppt/slides/slide147.xml" ContentType="application/vnd.openxmlformats-officedocument.presentationml.slide+xml"/>
  <Override PartName="/ppt/slides/slide148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156.xml" ContentType="application/vnd.openxmlformats-officedocument.presentationml.slide+xml"/>
  <Override PartName="/ppt/slides/slide157.xml" ContentType="application/vnd.openxmlformats-officedocument.presentationml.slide+xml"/>
  <Override PartName="/ppt/slides/slide208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210.xml" ContentType="application/vnd.openxmlformats-officedocument.presentationml.slide+xml"/>
  <Override PartName="/ppt/slides/slide135.xml" ContentType="application/vnd.openxmlformats-officedocument.presentationml.slide+xml"/>
  <Override PartName="/ppt/slides/slide39.xml" ContentType="application/vnd.openxmlformats-officedocument.presentationml.slide+xml"/>
  <Override PartName="/ppt/slides/slide211.xml" ContentType="application/vnd.openxmlformats-officedocument.presentationml.slide+xml"/>
  <Override PartName="/ppt/slides/slide212.xml" ContentType="application/vnd.openxmlformats-officedocument.presentationml.slide+xml"/>
  <Override PartName="/ppt/slides/slide213.xml" ContentType="application/vnd.openxmlformats-officedocument.presentationml.slide+xml"/>
  <Override PartName="/ppt/slides/slide20.xml" ContentType="application/vnd.openxmlformats-officedocument.presentationml.slide+xml"/>
  <Override PartName="/ppt/slides/slide188.xml" ContentType="application/vnd.openxmlformats-officedocument.presentationml.slide+xml"/>
  <Override PartName="/ppt/slides/slide217.xml" ContentType="application/vnd.openxmlformats-officedocument.presentationml.slide+xml"/>
  <Override PartName="/ppt/slides/slide30.xml" ContentType="application/vnd.openxmlformats-officedocument.presentationml.slide+xml"/>
  <Override PartName="/ppt/slides/slide214.xml" ContentType="application/vnd.openxmlformats-officedocument.presentationml.slide+xml"/>
  <Override PartName="/ppt/slides/slide21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189.xml" ContentType="application/vnd.openxmlformats-officedocument.presentationml.slide+xml"/>
  <Override PartName="/ppt/slides/slide218.xml" ContentType="application/vnd.openxmlformats-officedocument.presentationml.slide+xml"/>
  <Override PartName="/ppt/slides/slide215.xml" ContentType="application/vnd.openxmlformats-officedocument.presentationml.slide+xml"/>
  <Override PartName="/ppt/slides/slide216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51.xml" ContentType="application/vnd.openxmlformats-officedocument.presentationml.slide+xml"/>
  <Override PartName="/ppt/slides/slide158.xml" ContentType="application/vnd.openxmlformats-officedocument.presentationml.slide+xml"/>
  <Override PartName="/ppt/slides/slide207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52.xml" ContentType="application/vnd.openxmlformats-officedocument.presentationml.slide+xml"/>
  <Override PartName="/ppt/slides/slide219.xml" ContentType="application/vnd.openxmlformats-officedocument.presentationml.slide+xml"/>
  <Override PartName="/ppt/slides/slide159.xml" ContentType="application/vnd.openxmlformats-officedocument.presentationml.slide+xml"/>
  <Override PartName="/ppt/slides/slide206.xml" ContentType="application/vnd.openxmlformats-officedocument.presentationml.slide+xml"/>
  <Override PartName="/ppt/slides/slide6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29.xml" ContentType="application/vnd.openxmlformats-officedocument.presentationml.slide+xml"/>
  <Override PartName="/ppt/slides/slide197.xml" ContentType="application/vnd.openxmlformats-officedocument.presentationml.slide+xml"/>
  <Override PartName="/ppt/slides/slide33.xml" ContentType="application/vnd.openxmlformats-officedocument.presentationml.slide+xml"/>
  <Override PartName="/ppt/slides/slide203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28.xml" ContentType="application/vnd.openxmlformats-officedocument.presentationml.slide+xml"/>
  <Override PartName="/ppt/slides/slide196.xml" ContentType="application/vnd.openxmlformats-officedocument.presentationml.slide+xml"/>
  <Override PartName="/ppt/slides/slide32.xml" ContentType="application/vnd.openxmlformats-officedocument.presentationml.slide+xml"/>
  <Override PartName="/ppt/slides/slide202.xml" ContentType="application/vnd.openxmlformats-officedocument.presentationml.slide+xml"/>
  <Override PartName="/ppt/slides/slide205.xml" ContentType="application/vnd.openxmlformats-officedocument.presentationml.slide+xml"/>
  <Override PartName="/ppt/slides/slide5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108.xml" ContentType="application/vnd.openxmlformats-officedocument.presentationml.slide+xml"/>
  <Override PartName="/ppt/slides/slide176.xml" ContentType="application/vnd.openxmlformats-officedocument.presentationml.slide+xml"/>
  <Override PartName="/ppt/slides/slide201.xml" ContentType="application/vnd.openxmlformats-officedocument.presentationml.slide+xml"/>
  <Override PartName="/ppt/slides/slide199.xml" ContentType="application/vnd.openxmlformats-officedocument.presentationml.slide+xml"/>
  <Override PartName="/ppt/slides/slide204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200.xml" ContentType="application/vnd.openxmlformats-officedocument.presentationml.slide+xml"/>
  <Override PartName="/ppt/slides/slide198.xml" ContentType="application/vnd.openxmlformats-officedocument.presentationml.slide+xml"/>
  <Override PartName="/ppt/slides/slide209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66.xml" ContentType="application/vnd.openxmlformats-officedocument.presentationml.slide+xml"/>
  <Override PartName="/ppt/slides/slide134.xml" ContentType="application/vnd.openxmlformats-officedocument.presentationml.slide+xml"/>
  <Override PartName="/ppt/slides/slide38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132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34.xml" ContentType="application/vnd.openxmlformats-officedocument.presentationml.slide+xml"/>
  <Override PartName="/ppt/slides/slide130.xml" ContentType="application/vnd.openxmlformats-officedocument.presentationml.slide+xml"/>
  <Override PartName="/ppt/slides/slide31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2.xml" ContentType="application/vnd.openxmlformats-officedocument.presentationml.slide+xml"/>
  <Override PartName="/ppt/slides/slide168.xml" ContentType="application/vnd.openxmlformats-officedocument.presentationml.slide+xml"/>
  <Override PartName="/ppt/slides/slide1.xml" ContentType="application/vnd.openxmlformats-officedocument.presentationml.slide+xml"/>
  <Override PartName="/ppt/slides/slide167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  <p:sldId id="449" r:id="rId196"/>
    <p:sldId id="450" r:id="rId197"/>
    <p:sldId id="451" r:id="rId198"/>
    <p:sldId id="452" r:id="rId199"/>
    <p:sldId id="453" r:id="rId200"/>
    <p:sldId id="454" r:id="rId201"/>
    <p:sldId id="455" r:id="rId202"/>
    <p:sldId id="456" r:id="rId203"/>
    <p:sldId id="457" r:id="rId204"/>
    <p:sldId id="458" r:id="rId205"/>
    <p:sldId id="459" r:id="rId206"/>
    <p:sldId id="460" r:id="rId207"/>
    <p:sldId id="461" r:id="rId208"/>
    <p:sldId id="462" r:id="rId209"/>
    <p:sldId id="463" r:id="rId210"/>
    <p:sldId id="464" r:id="rId211"/>
    <p:sldId id="465" r:id="rId212"/>
    <p:sldId id="466" r:id="rId213"/>
    <p:sldId id="467" r:id="rId214"/>
    <p:sldId id="468" r:id="rId215"/>
    <p:sldId id="469" r:id="rId216"/>
    <p:sldId id="470" r:id="rId217"/>
    <p:sldId id="471" r:id="rId218"/>
    <p:sldId id="472" r:id="rId219"/>
    <p:sldId id="473" r:id="rId220"/>
    <p:sldId id="474" r:id="rId2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slide" Target="slides/slide194.xml"/><Relationship Id="rId197" Type="http://schemas.openxmlformats.org/officeDocument/2006/relationships/slide" Target="slides/slide195.xml"/><Relationship Id="rId198" Type="http://schemas.openxmlformats.org/officeDocument/2006/relationships/slide" Target="slides/slide196.xml"/><Relationship Id="rId199" Type="http://schemas.openxmlformats.org/officeDocument/2006/relationships/slide" Target="slides/slide197.xml"/><Relationship Id="rId200" Type="http://schemas.openxmlformats.org/officeDocument/2006/relationships/slide" Target="slides/slide198.xml"/><Relationship Id="rId201" Type="http://schemas.openxmlformats.org/officeDocument/2006/relationships/slide" Target="slides/slide199.xml"/><Relationship Id="rId202" Type="http://schemas.openxmlformats.org/officeDocument/2006/relationships/slide" Target="slides/slide200.xml"/><Relationship Id="rId203" Type="http://schemas.openxmlformats.org/officeDocument/2006/relationships/slide" Target="slides/slide201.xml"/><Relationship Id="rId204" Type="http://schemas.openxmlformats.org/officeDocument/2006/relationships/slide" Target="slides/slide202.xml"/><Relationship Id="rId205" Type="http://schemas.openxmlformats.org/officeDocument/2006/relationships/slide" Target="slides/slide203.xml"/><Relationship Id="rId206" Type="http://schemas.openxmlformats.org/officeDocument/2006/relationships/slide" Target="slides/slide204.xml"/><Relationship Id="rId207" Type="http://schemas.openxmlformats.org/officeDocument/2006/relationships/slide" Target="slides/slide205.xml"/><Relationship Id="rId208" Type="http://schemas.openxmlformats.org/officeDocument/2006/relationships/slide" Target="slides/slide206.xml"/><Relationship Id="rId209" Type="http://schemas.openxmlformats.org/officeDocument/2006/relationships/slide" Target="slides/slide207.xml"/><Relationship Id="rId210" Type="http://schemas.openxmlformats.org/officeDocument/2006/relationships/slide" Target="slides/slide208.xml"/><Relationship Id="rId211" Type="http://schemas.openxmlformats.org/officeDocument/2006/relationships/slide" Target="slides/slide209.xml"/><Relationship Id="rId212" Type="http://schemas.openxmlformats.org/officeDocument/2006/relationships/slide" Target="slides/slide210.xml"/><Relationship Id="rId213" Type="http://schemas.openxmlformats.org/officeDocument/2006/relationships/slide" Target="slides/slide211.xml"/><Relationship Id="rId214" Type="http://schemas.openxmlformats.org/officeDocument/2006/relationships/slide" Target="slides/slide212.xml"/><Relationship Id="rId215" Type="http://schemas.openxmlformats.org/officeDocument/2006/relationships/slide" Target="slides/slide213.xml"/><Relationship Id="rId216" Type="http://schemas.openxmlformats.org/officeDocument/2006/relationships/slide" Target="slides/slide214.xml"/><Relationship Id="rId217" Type="http://schemas.openxmlformats.org/officeDocument/2006/relationships/slide" Target="slides/slide215.xml"/><Relationship Id="rId218" Type="http://schemas.openxmlformats.org/officeDocument/2006/relationships/slide" Target="slides/slide216.xml"/><Relationship Id="rId219" Type="http://schemas.openxmlformats.org/officeDocument/2006/relationships/slide" Target="slides/slide217.xml"/><Relationship Id="rId220" Type="http://schemas.openxmlformats.org/officeDocument/2006/relationships/slide" Target="slides/slide218.xml"/><Relationship Id="rId221" Type="http://schemas.openxmlformats.org/officeDocument/2006/relationships/slide" Target="slides/slide219.xml"/><Relationship Id="rId2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1865-FA30-4436-BB78-89E4EE7B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E1DD-A8A3-4B1E-8397-41DD7982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84DE-DC21-4102-94AF-24507F97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52388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12120"/>
            <a:ext cx="2796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0E9C-22CE-4609-B18B-3E5E782E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79C-6C6F-4575-A8F4-0FDA8F4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CE7E-D535-4F8E-94F9-9615E83B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04A5-7804-4712-A8CB-E48728E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CC70-C64B-48B3-AD44-EE780109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2282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2AC-CD0C-4A1C-B60D-1635CB548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4514-39F2-4630-86B4-D44DC7FB0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1212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C886-91B6-4D99-9A69-F101E834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523880"/>
            <a:ext cx="42390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12120"/>
            <a:ext cx="8686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14EE-99F5-483F-A6BE-F43740A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l-Arial"/>
              </a:rPr>
              <a:t>Click to edit the title text format</a:t>
            </a:r>
            <a:endParaRPr b="1" lang="en-US" sz="30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99"/>
                </a:solidFill>
                <a:latin typeface="Al-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l-Arial"/>
              </a:rPr>
              <a:t>Prepared by Tablígh Sub-Committee of ISIJ of Toro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71DB-2573-4768-85F7-18187A6701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8994-518C-4152-98B1-97882F61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Èå×ãcáäoÂB ãÌÇåcáäoÂB ãÐäÃÂB ãÈåtãQ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In the name of Alláh the Beneficent, the Merciful.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69CE6-BB38-410B-B41C-9D2D47A75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äËãÆ ákátá¶ CáÆ áÀãWánåkâ»ãQ åeãÃå|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et right what is corrupt in me through Your power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5296-D266-4C10-A6E7-C6A907723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á»áXå¶B BálãH á½ãoå×á² ãÁBáKâtãÂ ã­Òâ£âhå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o humble myself in asking from someone else when I am poo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0D7A3-3371-45D6-B7B6-23799EBF0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Îán BálãH áÀáÊÑâj åÌáÆ ÔáÂãH ã­âäoá£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o plead with someone less than You when I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D122-CFBD-491C-9AB1-134F99E2A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áÀá¢Báoå®ãHáÑ áÀá¯åËáÆáÑ áÀáÊáÙåmãg áÀãÂámãQ áä¼ãdáXåsáGá¶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for then I would deserve Your abandonment, Your withholding, and Your turning away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6E4AA-B5A8-4365-8CB0-59449CDC9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Ì×ãÇãcBáäoÂB áÈácånáF Eá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Most Merciful of the mercifu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3371-5F1B-46FB-8CD7-128855E06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Øã®Ñân Øã¶ âÉCá§å×áäxÂB Øã»åÃâÖ CáÆ åÄá¯å_B áäÈ~âÏ~áäÃÂB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ãkátádåÂB áÑ ØãäËá«áäXÂB áÑ ØãäËáÇáäXÂB áÌãÆ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the wishing, the doubt, and the envy which Satan throws into my heart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6C9D-000C-4682-8507-EB893A2AF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á«á¯ãÂ Bæoå¾ãl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membrance of Your might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1472-17DA-464E-9347-AC4C6EDE8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nåkâº Øã¶ Bæoâä¿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reflection upon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F372-6469-4314-A541-73BB060D1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äÑâká® ÔáÃá® Bæo×ãQåk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devising against Your enem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4A1B-C518-4DDE-AFB3-3C14367B8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tãÂ ÔáÃá® Óáoå_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everything he causes to pass over my tongu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FFE62-FCDF-43FC-81B0-B27A16563F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è</a:t>
            </a: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¡åoã® ãÈåXáw åÑáF èoå`áÎ åÑáF èyådâ¶ ãUá«å·áÂ åÌ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èÄã¦CáQ ãTájCáÏáw åÑá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- the indecent or ugly word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maligning of good reput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he false witness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C832-7E00-4DE2-A70A-5CC474531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205E-5D0A-4A93-BEAC-8CCA73B2BC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oã¢Các ãäSás åÑáF èSãMEá² èÌãÆåKâÆ ãPCá×ãXå²B ãÑ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peaking ill of an absent man of faith</a:t>
            </a:r>
            <a:br>
              <a:rPr sz="5800"/>
            </a:b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r the reviling of one presen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9787-0FBB-46E8-9E8D-4FE67618E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Â ãkÇádåÂCãQ Cæ»å§âÊ áÀãÂál áÐáRåwáF E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ll things similar - a speech in praise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BB5F-CA4E-4987-84D1-71C7BCB81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Ãá® ãAEáËáä\ÂB Øã¶ CæºBáoå²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pursual of eulogiz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D573-4FCE-40B5-90E3-8E497B2872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ãk×ã`åÇáW Øã¶ CæQCáÎál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excursion in magnif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5FF43-2E8B-45ED-A649-7921CB15F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Â Bæoå¿â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thanksgiving for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86C7-4774-42D4-B025-F62A02E6E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ÊCátåcãIãQ Cæ¶BáoãXå®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 acknowledgement of Your benefic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2FC8-74EE-4897-BAC7-AEDEB7F39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ËáËãÇãÂ æAEá|åc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enumeration of Your kindness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67F6-E0BE-4B44-B1E1-A689EC545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7999-93C3-40C4-8FF8-973AB6AB2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äËá® ã°å¶áäkÃãÂ ç¼×ã§âÆ áYåÊFáÑ áäÌáÇáÃåªâ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wronged while You can repel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F019-29A2-4A4D-BFDE-024B2739D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ØãäËãÆ ã¤åRá»åÂB ÔáÃá® ânãjCá»åÂB áYåÊáF áÑ áäÌáÇãÃåªáF áÙ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do wrong while You are powerful over holding me back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B6AFB-359A-48FE-834B-FAFF8FFAF8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Q âÅCáÇãXåÎãÙB ØãËâÃá³åxáÖ CáÆ ØãËã·å¾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concerns which distrac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7D93-3C9C-497E-BFE7-258804FBF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XáÖBákãÎ áÀåXáËá¿åÆáF åkáºáÑ áäÌáäÃã¢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misguided while You are able to guide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ADF9-3A3B-45A4-A772-559B33554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¯åsâÑ á½ãkåËã® åÌãÆáÑ áäÉáoã»áXå¶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poor while with You is my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3D71-AC10-424A-A265-42BFB6817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Õãkå_âÑ á½ãkåËã® åÌãÆáÑ áäÌá×á³å¦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not be insolent while from You comes my wealth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DF950-2ACE-4A9B-8775-0C6E3B565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¶áÑ áÀãWáoã·å³áÆ ÔáÂãH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I come to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4EAF-B3E1-4DA8-BB23-8B8830D396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ká|áº á½ãÒå·á®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go straight to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D16B-E4EF-4F6E-800D-C0BBE9189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áXåwB á½ãpâÑCá`áW ÔáÂ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 yearn for Your forbear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1D8B7-5F0B-47B3-8C43-924ACA8FBF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»ã[áÑ áÀãÃå£á·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trust in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9F2A-B911-441E-BD76-0B5C5FF09E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áWáoã·å³áÆ ØãÂ âSã_ÒâÖ CáÆ ÕãkåËã® áuå×á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there is nothing with me to make me warrant Your forgiv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8CC3-C3EE-4495-BCFB-A47B660503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áÒå·á® ãÐãQ âä¼ãdáXåsáF EáÆ ØãÃáÇá® Øã¶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thing in my works to make me merit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7EBD6-3ED0-4CAB-B73E-E7D4BB385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âÃå£á¶ áÙãH Øãtå·áÊ ÔáÃá® âYåÇá¿ác åÉáF ákå¯áQ ØãÂ CáÆ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nothing on my behalf after I judge my soul but Your bou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A9747-C75A-4282-BA19-754D15F1B9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âÐåËá® Bæká² ØãËâÂáGåtáW CáÇãQ ØãËåÃãÇå¯áXås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that about which You will ask me tomorrow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DD37-615F-4180-9146-26D003444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|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D9B67-432A-4A3F-9AB4-F58C1C8AF6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äØáÃá® åÄáä£á·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estow Your bounty upon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D499-05AF-4795-B79A-876F7F901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kâÏåÂCãQ ØãËå»ã§åÊáF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make my speech be guida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963-0730-4CFF-8464-67E2880AB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ÓáÒå»áäXÂB ØãËåÇãÏ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spire me with reverential fe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2FEB3-D33B-4F78-B53C-D12DDAE3FA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¾åpáF áØãÎ ØãXáäÃãÂ ØãËå»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uccess in that which is most p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C305-9958-4572-89D1-3850EB841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¢ånáF áÒâÎ Cá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employ me in what is most pleasing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ADB5-E642-4264-B66F-35E81D90A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ÔáÃå\âÇåÂB áUá»Öãoáä§ÂB áØãQ åÀâÃås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let me tread the most exemplary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B7A39-9CBB-449D-8BC9-AA21D67605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×åcáFáÑ âVÒâÆáF áÀãXáäÃãÆ ÔáÃá®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e live and die in Your cre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0AC5-233E-450A-99A0-6494FBD9F0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D12A-22E2-4460-AEFB-96D950C3C1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|ãXåºãÙC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moder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39FA-8657-4D3D-8432-CBFF3C09E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ÐáÂ ØãËáXå»áÃág CáÇ×ã¶ ØãÆCáäÖáF å±ãoå·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t me pass my days in that for which You have created m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CD102-6557-4BD3-BDAC-8C7700BC43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BákáätÂB ãÄåÎáF åÌãÆ ØãËåÃ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into one of the people of right behavi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6531-9CE2-4803-9378-B97EACE8A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B ãUáäÂãjáF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roofs of right conduc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DB1F-2501-449A-B873-6753F5B27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ØãdãÂCá{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servants of righteou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737C-B146-4A4A-AA79-2C5F0F7978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ápåÒá¶ ØãËåºâpånB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triumph at the place of Return (to You)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3478-5E8A-4345-9042-E7DC189E97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{åoãÇåÂB áUáÆáÚ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the Ambush (i.e. Hell)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D90-DEDB-484A-8F19-B3A91DB7D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|ãäÃáhâÖ CáÆ Øãtå·áÊ åÌãÆ áÀãtå·áËãÂ åmâg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take to Yourself from my soul what will purify i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2201A-83BB-4970-99AB-222D09BA5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dãÃå|âÖ CáÆ Øãtå·áÊ åÌãÆ Øãtå·áËãÂ ã¼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leave for my soul that of my soul that will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10AE-7DFE-48F9-B88A-19D2DB6F28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âÇã|å¯áW åÑáF çUá¿ãÂCáÎ Øãtå·áÊ áäÉ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my soul will perish unless You preserve i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6A26-1702-4439-BDCD-50A5B6636B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Êãqác åÉãH ØãWáäkâ® áYåÊáF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You are my stores when I sorrow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1DF2-D244-4C90-8740-CAA37C43C5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Æãoâc åÉãH Øã¯á`áXåË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You are my recourse when I am depriv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4793C-6FF5-4B9A-ACE6-B500CF3A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oá§áRÂCãQ ØãäËãXå·áW áÙ áÑ áÀãºåpãn Øã¶ áäØáÃá® å°ãsåÑáF áÑ ØãËãËå²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ee me from need, expand Your provision toward me, and tempt me not with ingratitud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8B07-01CC-44E3-A880-0836FD478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[ãoá¾ åÉãH ØãXá[Cá³ãXåsB áÀãQ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You I seek aid when troubl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D678-E7FA-45C0-8AD4-2960D830ED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¸áÃág áVCá¶ CáäÇãÆ á½ákåË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th You is a substitute for everything gone b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0C3A-9717-4890-9E79-FB6FE8CA69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báÚá{ ákátá¶ CáÇã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 correction for everything corrup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FE1B2-C7B5-4B81-9B8A-832E87FEC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ço×ã×å³áW áVåoá¿åÊáF EáÇ×ã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 change from everything You disapprove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1C19D-B58F-4DDF-AB3A-1BB766E412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×ã¶Cá¯åÂCãQ ãAáÚáRåÂB áÄåRáº áäØáÃá® åÌâËåÆC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o show kindness to me with well-being before affli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ED4B-55DE-4DCE-A0A2-A7AC8475A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kã`åÂCãQ ãSáÃáä§ÂB áÄåRá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wealth before ask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90F7-3742-433F-8163-1385588CC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wáäoÂCãQ ãÁáÚáä£ÂB áÄåRá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ight conduct before misguidance;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E7390-5D29-445F-8EB1-E6A92DD021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Rã¯åÂB ãTáäoá¯áÆ áUáÊ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uffice me against the burden of shame toward the servant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8B8D-A3C1-40AD-B722-26B6F2CA8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jCá¯áÇåÂB ãÅåÒáÖ áÌåÆáF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security on the Day of Retur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B073-AAE8-4BAD-86B9-D627E53AA4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jCáwånãåß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excellent right guidanc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D5A4-74BE-44FB-BBF8-532E5A6728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Rã¿åÂCãQ ØãäËá×ãÃáXåRáW áÙ áÑ ØãÊáäqã®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Exalt me and afflict me not with prid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EC8-5A85-4C19-93A8-ED14F560A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~áäÇádâÆ ÔáÃá® ãäÄ~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3103-E9F6-4507-9A6B-5DE195015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·å§âÃãQ ØãäËá® åFánåj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epel from me through Your gentle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610D-CDD5-4E62-8FA8-E0F155A699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Çå¯ãËãQ ØãÊâmå²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eed me through Your favou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EF7C-4386-4B55-9BB4-194B4F8C6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Æáoá¿ãQ ØãËådãÃå{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et me right through Your generos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58264-47E9-4E47-BC5C-43102AFD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¯åËâ|ãQ ØãÊãÑBáj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eal me through Your benef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B8EF-2861-4562-839F-A88CA1A5B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Bánál Øã¶ ØãËáäÃã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hade me in Your shelt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44C2-330E-4829-A3CD-979A6C4A8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½Cá¢ãn ØãËåÃãäÃá_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rap me in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CC026-1F88-4662-BF7B-F9414C51D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CáÎBák~åÎáãÛ ânÒ~âÆâåÛB áäØáÃá® åYáÃá¿áXåwB BálãH ØãËå»ãä¶áÑ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give me success to reach the most guided of affairs when affairs confuse me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35B67-3BC3-4333-8749-1A0748036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¾åpáãÛ âÁCáÇå®áÛBB ãY~áÏáQCáx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purest of works when works seem simila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0256-6418-4D52-8192-99688E77F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ÎCá¢ånáãÛ âÄáÃãÇåÂB ãYá£áºCáËáW BálãH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most pleasing to You of creeds when creeds conflic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BE5-1782-4B7D-B6E2-3AFF6F91D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å`â¯åÂCãQ ØãWájCáRã® åkãtå·âW áÙ áÑ áÀáÂ ØãÊåkãäRá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me worship You and corrupt not my worship with self-admiration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17E91-EF71-46F1-94BB-3AE85752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EC73-7526-4800-B117-10E7EC392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Cá·ã¿åÂCãQ ØãËå_ãäÒáW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crown me with sufficien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A4D7-69FA-410A-BF2B-5818F848F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áÙáÒåÂB áÌåtâc ØãËåÇâ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lace in me excellent guardian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5BF88-605C-444C-86C0-8E80FB213B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ÖBákãÏåÂB á¹åkã{ ØãÂ åSá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guide correctl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A85-5A1C-4562-8343-8F2200E378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¯áätÂCãQ ØãäËãXå·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with plen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57CE-CE0F-488A-A728-52F8C10B7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áäkÂB áÌåtâc ØãËåd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excellent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D779F-A77C-4D05-BCB7-CA659EDF9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á¾ Bæäká¾ Øãxå×á® åÄá¯å`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make not my life toil and troubl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204B-2EAF-42C3-90A5-9A0AA9002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ján áäØáÃá® ØãMEá®âj áäjâo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fuse not my supplication in reje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EBEF-54E8-4289-BA42-7C17E2680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¢ áÀáÂ âÄá¯å_áF áÙ ØãäÊãI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 I make none rival to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7BFD-136F-413E-B02B-0C85DFDC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BæäkãÊ áÀá¯áÆ Òâ®åj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I supplicate none with You as equal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4C3C-36B4-44E6-8621-82C7F2151C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ãäÌáÇåÂCãQ âÐå»ádåÇáW áÙ áÑ áoå×áhåÂB áÕãkáÖ ÔáÃá® ãrCáäËÃãÂ ãoå_áF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good flow out from my hands upon the people and efface it not by my making them feel obliged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889E-5277-45F8-A26A-71FE15AC4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1A73-99DC-4C3A-9AA0-F67A117A3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µáoáätÂB áÌãÆ ØãËå¯áËåÆ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 me back from prodigal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C37D3-D829-491B-98BA-534A65A76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¸áÃáäXÂB áÌãÆ Øãºåpãn åÌãä|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ortify my provision against rui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E791-774A-403F-BBC1-2D5DB4151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×ã¶ ãUá¾áoáRåÂCãQ ØãXá¿áÃáÆ åoãä¶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rease my possessions through blessing the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CDB45-4F35-4A1F-A4F9-02B022A586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ÐåËãÆ â¼ã·åÊâF EáÇ×ã¶ ãäoãRåÃãÂ ãUáÖBákãÏåÂB áÄ×ãRás ØãQ åSã{áF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set me upon the path of guidance through piety in what I spend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4DB2-71E0-4CAA-B812-E3FD920DC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7005D-CC49-44EC-9DF0-69275371A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PCátãXå¾ãÙB áUáÊÑâKáÆ ØãËã·å¾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pare me the burden of ear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5C34-2A62-4A48-830B-51D00013C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PCátãXåcB ãoå×á² åÌãÆ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for me without reckon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ED91-1108-4487-9BEF-C85134E77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Ãáä§ÂCãQ áÀãWájCáRã® åÌá® áÄã³áXåwáF áÚ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be distracted from Your worship through seeking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D66-329E-45D5-B618-A5A4F1D49C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Sátå¿áÇåÂB ãVCá¯ãRáW áoå{ãH áÄãÇáXåcáF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arry the load of earning’s ill resul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2A49-246B-4F7B-AC68-0EA688533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¹áÚågáÛBB áØãÂCá¯áÆ Ø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he highest moral trai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13EF-32FD-4834-9202-E05040810B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âÃå¦áF EáÆ áÀãWánåkâ»ãQ ØãËåRãÃå¦áGá¶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50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bestow upon me what I seek through Your power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694-2DBF-4CF8-8B11-AF5D684D65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SáÎånáF EáäÇãÆ áÀãWáäqã¯ãQ ØãÊåoã_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grant me sanctuary from what I fear through Your migh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7A4A-31DD-4207-8A3B-25AD03F4D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6D4E9-8572-454E-8A86-EF8589790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tá×åÂCãQ ØãÏå_áÑ åÌâ{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ave my face through eas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A958-3E4D-46A1-8508-33C168CA2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XåºãåßCãQ ØãÎCá_ åÁãm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demean not my dignity through need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8430-BAC0-4BAD-B1E7-2D59CF7BE8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ºåpãn áÄåÎáF á¹ãpåoáXås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st I seek provision from those whom You have provid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3C01-567B-44A2-A38E-D8AC85028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»åÃág ánBáoãw áØã§å¯áX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sk for bestowal from the worst of Your creatur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30CE-C356-46F7-A72A-5F18FE90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ÊCá§å®áF åÌáÆ ãkåÇádãQ áÌãXáXå¶áGá¶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n I would be tried by praising him who gave to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2049-1580-417B-B6FB-0B6E550E6D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Ëá¯áËáÆ åÌáÆ ãäÅámãQ ÔáÃáXåQ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fflicted with blaming him who held back from m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AB87-A4D8-4B68-97F3-DEB728B11E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°åËáÇåÂBáÑ ãAEá§å®ãåßB âäØãÂáÑ åÈãÏãÊÑâj åÌã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while You - not they - are patron of giving and holding back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32ED-DA6F-4CD0-8054-4942F3085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D3FB-6B4B-4B17-BC46-DAF65CD27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åhá·åÂB áÌãÆ ØãËåÇã|å®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preserve me from vainglory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8114-122E-405D-9E70-70311756AC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6E8E-E777-4C37-8D6B-1FCA04674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Rã® Øã¶ æUáädã{ ØãËåºâpån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vide me with soundness in worship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211B-6C59-4D6B-A116-305757340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TájCáÎáp Øã¶ Cæ²Báoá¶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detachment in renunci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6A9-3C6A-41A5-94B9-B85EDC41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¯ãXåsB Øã¶ CæÇåÃã®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knowledge put into ac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DD21-D110-426E-A54E-5E6A882F0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ÁCáÇå_ãH Øã¶ Cæ®ánáÑ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bstinence in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A62C-6D4A-4125-AEDE-8A4151528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_áF á½ãÒå·á¯ãQ åÈãXåg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, seal my term with Your pard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2A82-50F9-4303-99C9-3B90682A3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ÆáF áÀãXáÇåcán ãAEá_án Øã¶ å¼ãä»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verify my expectation in hoping for Your merc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8D86-950B-4CE2-822D-2953F12AE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âRâs á½Cá¢ãn ã±ÒâÃâQ ÔáÂãH åÄãäÏ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smooth my paths to reach Your good pleasur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1B3B3-2C5D-4441-860A-AFF6F9AF3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ØãÃáÇá® ØãÂBáÒåcáF ã°×ãÇá_ Øã¶ åÌãätác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make my works good in all my state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9C3E-770F-461B-A122-8DF3E8A71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6CC6-8D25-443D-BB56-5CEDC89191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C4329-8082-4AD3-9747-26B5B07455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·á³åÂB ãVCáºåÑáF Øã¶ á½ãoå¾ãmãÂ ØãËåÏãäRá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incite me to remember You in times of heedless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065F-395C-43BC-8050-4449C9BB8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ÃåÏâÇåÂB ãÅCáäÖáF Øã¶ áÀãXá®Cá§ãQ ØãËåÃãÇå¯áXås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employ me in Your obedience in days of disregar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A5C94-160A-4D64-B40F-5590D548A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æUáÃåÏás æÚ×ãRás áÀãXáäRádáÆ ÔáÂãH ØãÂ åaáÏåÊ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en a smooth road for me to Your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73A1F-29B2-4D17-B8CA-12E68E512C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oãgåÝB áÑ Cá×åÊâäkÂB áoå×ág CáÏãQ ØãÂ åÄãÇå¾á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omplete for me thereby the good of this world and the next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F47E-161A-45D6-88CE-25355F262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Ñ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397C-C332-485F-B45C-19E292B34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âÐáÃåRáº áÀã»åÃág åÌãÆ èkácáF ÔáÃá® áYå×áäÃá{ CáÆ ãÄá£å¶áGá¾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best You have blessed any of Your creatures before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C259-6551-4709-BD73-735E9C459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Íákå¯áQ èkácáF ÔáÃá® èäÄá|âÆ áYåÊ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will bless any of them after him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3A8A-1DC6-4EF6-AE56-64281AC82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æUáËátác ãTáoãgåÝB Øã¶ áÑ æUáËátác Cá×åÊâäkÂB Øã¶ CáËãWD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to us in this World good, and in the next world goo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41B50-BEE4-43DC-81D3-47FDDCE7F5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nCáäËÂB áPBámá® áÀãXáÇåcáoãQ ØãËãº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rotect me through Your mercy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 </a:t>
            </a:r>
            <a:r>
              <a:rPr b="1" i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from the chastisement of the Fire! </a:t>
            </a: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(2:201)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25783-5F9A-41B5-8412-0F7FA7A7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B áäÑ èkáäÇádâÆ ÔÃá® ãäÄá{ áäÈâÏäÃÂá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family of Muhammad.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AC519-FACC-4E96-916E-FA1F14528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86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Øãtå·áÊ ákåËã® ØãËáXå§á§ác áäÙãH æUá_ánáj ãrCáäËÂB Øã¶ ØãËå¯á¶åoá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ÏáÃå\ã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raise me not a single degree before the people without lowering me its like in myself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9F73-B2A6-4387-8BD6-054B14FCD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æUáËã¦CáQ æUáäÂãl ØãÂ áYå[ákåcáF áäÙãH DæoãÎCáª Bæäqã® ØãÂ åZãkådâW áÙ á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Karbala"/>
              </a:rPr>
              <a:t>CáÎãnáká»ãQ Øãtå·áÊ ákåËã®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bring about no outward exaltation for me without an inward abasement in myself to the same measure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214-148A-4378-B32A-88EF8C9B3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F532-C0DB-4F10-957A-119173E56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Q âÁãkåRáXåsáF áÙ èeãÂCá{ ÓækâÏãQ ØãËå¯ãäXá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give me to enjoy a sound guidance which I seek not to repla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434B-7CEE-4C44-BE5B-5FE316C84E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åËá® â´ÖãpáF áÙ èä¼ác ãUá»Öãoá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path of truth from which I swerve no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3381-A5A3-42E2-87C5-24C63D002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×ã¶ âäÀâwáF áÙ èkåwân ãUáä×ãÊ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an intention of right conduct in which I have no doubt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ED492-615A-4C93-8F86-10ECF8643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áÀãXá®Cá¦ Øã¶ æUáÂåmãQ ÕãoåÇâ® áÉCá¾ CáÆ ØãÊåoãäÇá®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Let me live as long as my life is a free gift in obeying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0A051-03A5-4020-AFC9-D6A06241A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áÀå×áÂãH ØãËå£ãRåºCá¶ ãÉCá§å×áäxÃãÂ Cæ¯áWåoáÆ ÕãoåÇâ® áÉCá¾ BálãIá¶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ut if my life should become a pasture for Satan, seize me to Yourself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C158-6374-4A2D-9761-01870D0E4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52A1-57F0-4F61-B5F8-C74E789E1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ÂãH áÀâXå»áÆ á¼ãRåtáÖ åÉáF áÄåRáº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fore Your hatred overtakes me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8A589-DB4B-4127-BEE4-7B0FDADBC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ØáÃá® áÀâRá£á² áÈã¿ådáXåtáÖ åÑáF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r Your wrath against me becomes firm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4588-91F7-4ACE-B547-A1D42A46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CáÏáXådáÃå{áF áäÙãH ØãäËãÆ âPCá¯âW æUáÃå|ág å­ákáW áÙ áäÈ~âÏ~áäÃÂB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deposit in me no quality for which I will be faulted, unless You set it righ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6501-9261-4158-AC71-C0B37188DD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CáÏáXåËáätác áäÙãH EáÏãQ âSáäÊáJâF æUáRãMEá® áÙ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no flaw for which I will be blamed, unless You make it beautifu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47AF-441F-4E11-8890-B79C18720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CáÏáXåÇáÇåWF áäÙãH æUá|ãºCáÊ áäØã¶ æUáÆÑâoå¾âF áÙ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no deficient noble trait, unless You complete i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79A6-D35D-40FB-B5D8-165FC3F61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èkáäÇádâÆ ãÁD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the Household of Muhamma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471B-D345-4834-BE21-D0FD49035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äRádáÇåÂB ãÉCáËáäxÂB ãÄåÎáF ãUá£å³ãQ åÌãÆ ØãËåÂãkåQ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place for me the animosity of the people of hatred with lov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74C8-5547-446B-9EA0-FCFC5E597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jáÒáÇåÂB ãØå³áRåÂB ãÄåÎáF ãkátá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vy of the people of insolence with affec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AD33-ED58-481E-BCB5-7DD5555F5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Uá»ãä\ÂB ãbáÚáä|ÂB ãÄåÎáF ãUáäËãª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suspicion of the people of righteousness with trust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3ACE-3B19-4BDE-9A08-B1289BB4E9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ÖáÙáÒåÂB áÌå×áÊåjáÛBB ãTáÑBáká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enmity of those close with friendshi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277E-DD5B-48D3-A3A2-8074585C3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ÉCáÇÖãåßB áÄáÇå¾áF ØãÊCáÇÖãIãQ å´ãäÃá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ause my faith to reach the most perfect fait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D213-EA32-4063-AEBE-2B2BDE734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äoáRáÇåÂB ãÅCácånáÛBB ÕãÑál ã¹Òâ»â®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disrespect of womb relatives with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8266-1030-4FAD-85CE-8E3563CCB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Táoå|âäËÂB áÌ×ãQáoåºáÛBB ãÉáÙåmãg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bandonment of relatives with help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065B-8CBA-4122-A2BF-B7F2C23A0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»ãÇåÂB áe×ãdå|áW áÌÖãnBákâÇåÂB ãäSâc åÌã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the attachment of flatterers with love set r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1F5B9-35CB-4954-B152-06879192F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oåxã¯åÂB áÅáoá¾ áÌ×ãtãQáÚâÇåÂB ãäján åÌã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he rejection of fellows with generous friendlin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498D1-FFC3-4B60-B86F-AFD70AE94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Karbala"/>
              </a:rPr>
              <a:t>ãUáËáÆáÛBB áTáÑáÚác áÌ×ãÇãÂCáä«ÂB ãµåÒág ãTánBáoáÆ åÌãÆ áÑ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e bitterness of the fear of wrongdoers with the sweetness of securit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EBC6-A243-433D-B3BF-3E492E478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D55A-A1D7-406D-B989-8D3795045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Ãáª åÌáÆ ÔáÃá® BækáÖ ØãÂ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a hand against him who wrong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9B08-4EE0-44B6-836B-1D3BD196F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Çá{Cág åÌáÆ ÔáÃá® CæÊCát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 tongue against him who disputes with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1942-232C-4252-BC05-C8A14FF96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ÊCá® åÌáÇãQ Bæoá·áª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a victory over him who stubbornly resist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6A3D-5B76-4073-98EB-F83E4902C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ÖCá¾ åÌáÆ ÔáÃá® Bæoå¿áÆ Ø~ãÂ åSáÎ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me guile against him who schemes against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E34E-F9DE-4006-B3AB-2EC28D75EC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×ã»á×åÂB áÄá£å¶áF ØãË×ã»áÖ åÄá¯å_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e my certainty the most excellent certainty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538D-A77A-4912-A44D-7C4ED58C8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Ïá§å¢B ãÌáÆ ÔáÃá® æTánåkâº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ower over him who oppress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B537-9057-42E7-A84A-E762A2152E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áRá|áº åÌáÇãÂ CæRÖãmå¿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utation of him who reviles m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2922-C5E5-4CD3-BDAC-3838E76B8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ä®áÒáW åÌáäÇãÆ æUáÆáÚ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afety from him who threatens me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3F214-2EDD-43AA-91A1-2EF978ACAA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jáäkás åÌáÆ ãUá®Cá§ãÂ ØãËå»ãä¶áÑ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nt me success to obey him who points me straigh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B86CD-197D-4FC9-BAA0-92C8BF8A5B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ÊákáwånáF åÌáÆ ãUá¯áQCáXâÆ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follow him who guides me righ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91D3-D96D-4FD9-9D0D-6D9C9CB92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6934-A908-426F-AC68-61315B6C13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eå|âäËÂCãQ ØãËáäxá² åÌáÆ á¡ãnCá®âF åÉáãÛ Ø~ãÊåjãäk~ás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oint me straight to resist him who is dishonest toward me with good counsel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336A-591B-4210-B9E8-2150A3D3F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oãRåÂCãQ ØãÊáoá`áÎ åÌáÆ áÕãqå_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pay him who separates from me with gentle devo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AC82-8768-4855-83E0-30C8E7DBEB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åmáRåÂCãQ ØãËáÆáoác åÌáÆ áS×ã[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ward him who deprives me with free gi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2294-B71D-4660-A31C-C0B0DD9EB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ãä|ÂCãQ ØãËá¯á§áº åÌáÆ áOã¶Cá¾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ompense him who cuts me off with join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A04B-7E45-4A63-9BFB-058711421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VCáä×ãäËÂB ãÌátåcáF ÔáÂãH ØãXáä×ãËãQ ãÐáXåÊ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take my intention to the best of intention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07E0-39EE-4EFA-856A-32A085CCF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oå¾ãämÂB ãÌåtâc ÔáÂãH ØãËáQCáXå²B ãÌáÆ á¸ãÂCágâ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ppose him who slanders me with excellent men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D50D-5132-44F3-8FC4-E6B12DF38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UáËátádåÂB áoâ¿åwáF åÉá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ive thanks for goo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DFA67-454F-4A58-8EF0-E6CB07994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Nãä×áätÂB ãÌá® áØã£å²âF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shut my eyes to evil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9C4D-18F6-4CD5-8A75-5CFC81AA15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5B65-7963-4240-AB0E-96304565B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Ì×ãdãÂCáä|ÂB ãUá×åÃãdãQ ØãËãäÃá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dorn me with the adornment of the righteou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0E3C-6FE7-4D4C-82FF-540B38AD8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Áåká¯åÂB ã¨åtáQ Øã¶ áÌ×ã»áäXâÇåÂB áUáËÖãp ØãËåtãRåÂ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63880" indent="0" algn="ctr">
              <a:lnSpc>
                <a:spcPct val="9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clothe me in the ornaments of the god fearing, through spreading justi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5274-17E6-4121-88C2-01500AC4F6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¬å×á³åÂB ãÈå«á¾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straining rag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836F-5B6C-493A-ACC3-DEFDE15FF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ãMEáäËÂB ãAEá·å¦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quenching the flame of hat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A72A-C3F4-4C90-8B72-77CEFD0663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ºåoâ·åÂB ãÄåÎáF ãäÈá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ringing together the people of separ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D659-304C-43C9-94A9-1B60713C4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Ìå×áRåÂB ãVBál ãbáÚå{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rrecting discord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4B86-AAED-4210-8D54-9F7F93ABB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ÁCáÇå®áÛBB ãÌátåcáF ÔáÂãH ØãÃáÇá¯ãQ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nd my works to the best of works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6216A-648B-4B8E-855B-F58F3ABF5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¶ãnCá¯åÂB ãAEáxå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reading about good behaviou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DCAE-5C48-4AEF-86BC-A331C81288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RãMEá¯åÂB ãoåXá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covering fault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95292-9593-4AFC-9079-CB272014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¿Öãoá¯åÂB ãÌ×ãÂ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ildness of temper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3E8D-CF7D-4F2F-BA14-CAD940D5D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bCáËá`åÂB ã¤å·ág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lowering the wing (i.e. being gentle)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7061-C026-44FF-8CFE-B847B7685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Táo×ãätÂB ãÌåtâc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auty of conduc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14117-468E-409A-B6C8-679C38E12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eÖãäoÂB ãÉÒâ¿âs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gravity of bear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55D76-0F3B-4763-AC0F-0D9220AA7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·áÂCáhâÇåÂB ãS×ã¦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agreeableness in comportment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FBCCF-5248-4AFB-87EF-A4673D8329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UáÃ×ã£á·åÂB ÔáÂãH ã¼åRáätÂB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cedence in reaching excellence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625D-0B3A-4A12-B9A1-C0AE66DBC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âä£á·áäXÂB ãnCá\ÖãH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preferring bounteous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BAE9-49C5-4009-8539-7223798C6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o×~ã×å¯áäXÂB ã½åoáW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fraining from condemnation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5E12-D72C-4FC6-8243-37A9CB7282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Xáä×ãÊ áÀã·å§âÃãQ åoãä¶áÑ áäÈ~âÏ~áäÃÂB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complete my intention through Your gentleness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7A80-A71B-44BB-A96E-B13FB03D77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ãä¼ãdáXåtâÇåÂB ãoå×á² ÔáÃá® ãÁCá£å¶ãåß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bestowing bounty on the undeserving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10D5-C133-455F-BA07-57B03429AE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áäqá® åÉãH áÑ ãä¼ádåÂCãQ ãÁåÒá»åÂB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speaking the truth, though it be painful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560A-D9A1-4F90-8026-94375DC29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arbala"/>
              </a:rPr>
              <a:t>ØãÃå¯ã¶ áÑ ØãÂåÒáº åÌãÆ áoâ\á¾ åÉãH áÑ ãoå×áhåÂB ãÁáÚå»ãXåsB áÑ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9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making little of the good in my words and deeds, though it be much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E8F24-7D9B-46C9-9523-7EEE159F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Karbala"/>
              </a:rPr>
              <a:t>ØãÃå¯ã¶ áÑ ØãÂåÒáº åÌãÆ áäÄáº åÉãH áÑ ãäoáäxÂB ãnCá\å¿ãXåsB áÑ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and making much of the evil in my words and deeds, though it be little!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0330-AEA1-4353-B34E-62034581E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lnSpc>
                <a:spcPct val="100000"/>
              </a:lnSpc>
              <a:spcBef>
                <a:spcPts val="14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0000"/>
                </a:solidFill>
                <a:latin typeface="Karbala"/>
              </a:rPr>
              <a:t>ãUá®Cáä§ÂB ãÅBáÑákãQ Ø~ãÂ áÀãÂál åÄãÇå¾áFáÑ</a:t>
            </a:r>
            <a:endParaRPr b="0" lang="en-US" sz="59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Perfect this for me through lasting obedienc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9397-76AB-43C1-BAAF-C38C63C114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®CáÇá`åÂB ãÅÑâqâÂ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holding fast to the community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CE33-0599-4E34-874E-B5C98BB4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kãRåÂB ãÄåÎáF ã¤å¶án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rejecting the people of innovation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2A64-4788-422C-91C1-259AEF23C2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­áoáXåhâÇåÂB ãÕåFáäoÂB ØãÃãÇå¯áXåtâÆ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those who act in accordance with original opinions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9C921-EE24-4129-8F81-67B66D4DF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ÐãÂD áÑ èkáäÇádâÆ ÔáÃá® ãäÄá{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bless Muhammad and his Househol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E22E-70F8-4E43-9FD9-2FE5965B1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VåoãRá¾ BálãH áäØáÃá® áÀãºåpãn á°ásåÑáF åÄá¯å_B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ppoint for me Your widest provision in my old age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56C8-11C7-489D-AD31-137C1F3FD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Karbala"/>
              </a:rPr>
              <a:t>ØãË×ã»áÖ á½ákåËã® CáÇãQ åeãädá{ áÑ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100000"/>
              </a:lnSpc>
              <a:spcBef>
                <a:spcPts val="15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000000"/>
                </a:solidFill>
                <a:latin typeface="Al-Arial"/>
                <a:ea typeface="MS Mincho"/>
              </a:rPr>
              <a:t>rectify my certainty through what is with You,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F5E75-0192-4AC1-8A11-9C6833B7EB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âYåRã|áÊ BálãH áäØã¶ áÀãWáäÒâº ÓáÒåº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Your strongest strength when I am exhausted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FC27-59A5-4976-B9D3-4D9FC79BDF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WájCáRã® åÌá® ãÄátá¿åÂCãQ ØãäËá×ãÃáXåRáW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try me not with laziness in worship of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DF1B5-9C1A-4802-8ACC-012CEA853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Ã×ãRás åÌá® ÔáÇá¯åÂB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blindness toward Your path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2A28-7C44-4F16-A4F1-E7411482A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ãXáäRádáÆ ãµáÚãhãÂ ã¡âäoá¯áäXÂCãQ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undertaking what opposes love for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A3A5-2E56-41FE-BC1E-0CC8A1E12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Ëá® á¹áäoá·áW åÌáÆ ãUá¯áÆCá`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joining with him who has separated himself from You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867B-7311-4889-8CF5-0020771F0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áÀå×áÂãH á°áÇáXå_B ãÌáÆ ãUáºánCá·âÆ áÙ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separating from him who has joined himself to You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2849A-FFC2-4D06-A9D5-BB77B79B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TánÑâoáä£ÂB ákåËã® áÀãQ âÁÒâ{áF Ø~ãË~åÃá¯å_B áäÈ~âÏ~áäÃÂB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O Alláh make me leap to You in times of distres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16E0-02A4-4C91-9F69-504681D02E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_CádåÂB ákåËã® áÀâÂáGås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sk from You in needs,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0BD7-CDEB-47DD-ADB5-6E4392512C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Karbala"/>
              </a:rPr>
              <a:t>ãUáËá¿åtáÇåÂB ákåËã® áÀå×áÂãH â­áäoá£áWáF áÑ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l-Arial"/>
                <a:ea typeface="MS Mincho"/>
              </a:rPr>
              <a:t>and plead to You in misery!</a:t>
            </a:r>
            <a:endParaRPr b="0" lang="en-US" sz="5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37648-8D92-414B-8584-EBC3ABDED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endParaRPr b="1" lang="en-US" sz="6400" spc="-1" strike="noStrike">
              <a:solidFill>
                <a:srgbClr val="cc0000"/>
              </a:solidFill>
              <a:latin typeface="Al-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Karbala"/>
              </a:rPr>
              <a:t>âVånãoâ§å¢B BálãH á½ãoå×á³ãQ ãUáÊCá¯ãXåsãÙCãQ Ø~ãäËãXå·áW áÙ áÑ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ctr">
              <a:lnSpc>
                <a:spcPct val="100000"/>
              </a:lnSpc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Al-Arial"/>
                <a:ea typeface="MS Mincho"/>
              </a:rPr>
              <a:t>Tempt me not to seek help from other than You when I am distressed,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7:49:06Z</dcterms:created>
  <dc:creator>Akil Karim</dc:creator>
  <dc:description/>
  <dc:language>en-US</dc:language>
  <cp:lastModifiedBy>Admin</cp:lastModifiedBy>
  <dcterms:modified xsi:type="dcterms:W3CDTF">2013-10-12T15:57:16Z</dcterms:modified>
  <cp:revision>103</cp:revision>
  <dc:subject/>
  <dc:title>Du`a Makarim al-Akhlaq</dc:title>
</cp:coreProperties>
</file>