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20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2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19.xml.rels" ContentType="application/vnd.openxmlformats-package.relationships+xml"/>
  <Override PartName="/ppt/slides/_rels/slide163.xml.rels" ContentType="application/vnd.openxmlformats-package.relationships+xml"/>
  <Override PartName="/ppt/slides/_rels/slide86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75.xml.rels" ContentType="application/vnd.openxmlformats-package.relationships+xml"/>
  <Override PartName="/ppt/slides/_rels/slide180.xml.rels" ContentType="application/vnd.openxmlformats-package.relationships+xml"/>
  <Override PartName="/ppt/slides/_rels/slide6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2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177.xml.rels" ContentType="application/vnd.openxmlformats-package.relationships+xml"/>
  <Override PartName="/ppt/slides/_rels/slide3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2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16.xml.rels" ContentType="application/vnd.openxmlformats-package.relationships+xml"/>
  <Override PartName="/ppt/slides/_rels/slide113.xml.rels" ContentType="application/vnd.openxmlformats-package.relationships+xml"/>
  <Override PartName="/ppt/slides/_rels/slide12.xml.rels" ContentType="application/vnd.openxmlformats-package.relationships+xml"/>
  <Override PartName="/ppt/slides/_rels/slide18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44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2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217.xml.rels" ContentType="application/vnd.openxmlformats-package.relationships+xml"/>
  <Override PartName="/ppt/slides/_rels/slide114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44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45.xml.rels" ContentType="application/vnd.openxmlformats-package.relationships+xml"/>
  <Override PartName="/ppt/slides/_rels/slide84.xml.rels" ContentType="application/vnd.openxmlformats-package.relationships+xml"/>
  <Override PartName="/ppt/slides/_rels/slide161.xml.rels" ContentType="application/vnd.openxmlformats-package.relationships+xml"/>
  <Override PartName="/ppt/slides/_rels/slide117.xml.rels" ContentType="application/vnd.openxmlformats-package.relationships+xml"/>
  <Override PartName="/ppt/slides/_rels/slide31.xml.rels" ContentType="application/vnd.openxmlformats-package.relationships+xml"/>
  <Override PartName="/ppt/slides/_rels/slide211.xml.rels" ContentType="application/vnd.openxmlformats-package.relationships+xml"/>
  <Override PartName="/ppt/slides/_rels/slide159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1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8.xml.rels" ContentType="application/vnd.openxmlformats-package.relationships+xml"/>
  <Override PartName="/ppt/slides/_rels/slide202.xml.rels" ContentType="application/vnd.openxmlformats-package.relationships+xml"/>
  <Override PartName="/ppt/slides/_rels/slide22.xml.rels" ContentType="application/vnd.openxmlformats-package.relationships+xml"/>
  <Override PartName="/ppt/slides/_rels/slide194.xml.rels" ContentType="application/vnd.openxmlformats-package.relationships+xml"/>
  <Override PartName="/ppt/slides/_rels/slide50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45.xml.rels" ContentType="application/vnd.openxmlformats-package.relationships+xml"/>
  <Override PartName="/ppt/slides/_rels/slide160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170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218.xml.rels" ContentType="application/vnd.openxmlformats-package.relationships+xml"/>
  <Override PartName="/ppt/slides/_rels/slide132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7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6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219.xml.rels" ContentType="application/vnd.openxmlformats-package.relationships+xml"/>
  <Override PartName="/ppt/slides/_rels/slide133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206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7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31.xml.rels" ContentType="application/vnd.openxmlformats-package.relationships+xml"/>
  <Override PartName="/ppt/slides/_rels/slide19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53.xml.rels" ContentType="application/vnd.openxmlformats-package.relationships+xml"/>
  <Override PartName="/ppt/slides/_rels/slide123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208.xml.rels" ContentType="application/vnd.openxmlformats-package.relationships+xml"/>
  <Override PartName="/ppt/slides/_rels/slide28.xml.rels" ContentType="application/vnd.openxmlformats-package.relationships+xml"/>
  <Override PartName="/ppt/slides/_rels/slide209.xml.rels" ContentType="application/vnd.openxmlformats-package.relationships+xml"/>
  <Override PartName="/ppt/slides/_rels/slide2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207.xml.rels" ContentType="application/vnd.openxmlformats-package.relationships+xml"/>
  <Override PartName="/ppt/slides/_rels/slide199.xml.rels" ContentType="application/vnd.openxmlformats-package.relationships+xml"/>
  <Override PartName="/ppt/slides/_rels/slide27.xml.rels" ContentType="application/vnd.openxmlformats-package.relationships+xml"/>
  <Override PartName="/ppt/slides/_rels/slide149.xml.rels" ContentType="application/vnd.openxmlformats-package.relationships+xml"/>
  <Override PartName="/ppt/slides/_rels/slide195.xml.rels" ContentType="application/vnd.openxmlformats-package.relationships+xml"/>
  <Override PartName="/ppt/slides/_rels/slide23.xml.rels" ContentType="application/vnd.openxmlformats-package.relationships+xml"/>
  <Override PartName="/ppt/slides/_rels/slide203.xml.rels" ContentType="application/vnd.openxmlformats-package.relationships+xml"/>
  <Override PartName="/ppt/slides/_rels/slide100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210.xml.rels" ContentType="application/vnd.openxmlformats-package.relationships+xml"/>
  <Override PartName="/ppt/slides/_rels/slide156.xml.rels" ContentType="application/vnd.openxmlformats-package.relationships+xml"/>
  <Override PartName="/ppt/slides/_rels/slide198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205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97.xml.rels" ContentType="application/vnd.openxmlformats-package.relationships+xml"/>
  <Override PartName="/ppt/slides/_rels/slide204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196.xml.rels" ContentType="application/vnd.openxmlformats-package.relationships+xml"/>
  <Override PartName="/ppt/slides/_rels/slide179.xml.rels" ContentType="application/vnd.openxmlformats-package.relationships+xml"/>
  <Override PartName="/ppt/slides/_rels/slide178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30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7.xml" ContentType="application/vnd.openxmlformats-officedocument.presentationml.slide+xml"/>
  <Override PartName="/ppt/slides/slide163.xml" ContentType="application/vnd.openxmlformats-officedocument.presentationml.slide+xml"/>
  <Override PartName="/ppt/slides/slide66.xml" ContentType="application/vnd.openxmlformats-officedocument.presentationml.slide+xml"/>
  <Override PartName="/ppt/slides/slide162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64.xml" ContentType="application/vnd.openxmlformats-officedocument.presentationml.slide+xml"/>
  <Override PartName="/ppt/slides/slide160.xml" ContentType="application/vnd.openxmlformats-officedocument.presentationml.slide+xml"/>
  <Override PartName="/ppt/slides/slide63.xml" ContentType="application/vnd.openxmlformats-officedocument.presentationml.slide+xml"/>
  <Override PartName="/ppt/slides/slide62.xml" ContentType="application/vnd.openxmlformats-officedocument.presentationml.slide+xml"/>
  <Override PartName="/ppt/slides/slide61.xml" ContentType="application/vnd.openxmlformats-officedocument.presentationml.slide+xml"/>
  <Override PartName="/ppt/slides/slide60.xml" ContentType="application/vnd.openxmlformats-officedocument.presentationml.slide+xml"/>
  <Override PartName="/ppt/slides/slide91.xml" ContentType="application/vnd.openxmlformats-officedocument.presentationml.slide+xml"/>
  <Override PartName="/ppt/slides/slide23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53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148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208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210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211.xml" ContentType="application/vnd.openxmlformats-officedocument.presentationml.slide+xml"/>
  <Override PartName="/ppt/slides/slide212.xml" ContentType="application/vnd.openxmlformats-officedocument.presentationml.slide+xml"/>
  <Override PartName="/ppt/slides/slide213.xml" ContentType="application/vnd.openxmlformats-officedocument.presentationml.slide+xml"/>
  <Override PartName="/ppt/slides/slide20.xml" ContentType="application/vnd.openxmlformats-officedocument.presentationml.slide+xml"/>
  <Override PartName="/ppt/slides/slide188.xml" ContentType="application/vnd.openxmlformats-officedocument.presentationml.slide+xml"/>
  <Override PartName="/ppt/slides/slide217.xml" ContentType="application/vnd.openxmlformats-officedocument.presentationml.slide+xml"/>
  <Override PartName="/ppt/slides/slide30.xml" ContentType="application/vnd.openxmlformats-officedocument.presentationml.slide+xml"/>
  <Override PartName="/ppt/slides/slide214.xml" ContentType="application/vnd.openxmlformats-officedocument.presentationml.slide+xml"/>
  <Override PartName="/ppt/slides/slide21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89.xml" ContentType="application/vnd.openxmlformats-officedocument.presentationml.slide+xml"/>
  <Override PartName="/ppt/slides/slide218.xml" ContentType="application/vnd.openxmlformats-officedocument.presentationml.slide+xml"/>
  <Override PartName="/ppt/slides/slide215.xml" ContentType="application/vnd.openxmlformats-officedocument.presentationml.slide+xml"/>
  <Override PartName="/ppt/slides/slide216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51.xml" ContentType="application/vnd.openxmlformats-officedocument.presentationml.slide+xml"/>
  <Override PartName="/ppt/slides/slide158.xml" ContentType="application/vnd.openxmlformats-officedocument.presentationml.slide+xml"/>
  <Override PartName="/ppt/slides/slide207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52.xml" ContentType="application/vnd.openxmlformats-officedocument.presentationml.slide+xml"/>
  <Override PartName="/ppt/slides/slide219.xml" ContentType="application/vnd.openxmlformats-officedocument.presentationml.slide+xml"/>
  <Override PartName="/ppt/slides/slide159.xml" ContentType="application/vnd.openxmlformats-officedocument.presentationml.slide+xml"/>
  <Override PartName="/ppt/slides/slide206.xml" ContentType="application/vnd.openxmlformats-officedocument.presentationml.slide+xml"/>
  <Override PartName="/ppt/slides/slide6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29.xml" ContentType="application/vnd.openxmlformats-officedocument.presentationml.slide+xml"/>
  <Override PartName="/ppt/slides/slide197.xml" ContentType="application/vnd.openxmlformats-officedocument.presentationml.slide+xml"/>
  <Override PartName="/ppt/slides/slide33.xml" ContentType="application/vnd.openxmlformats-officedocument.presentationml.slide+xml"/>
  <Override PartName="/ppt/slides/slide203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28.xml" ContentType="application/vnd.openxmlformats-officedocument.presentationml.slide+xml"/>
  <Override PartName="/ppt/slides/slide196.xml" ContentType="application/vnd.openxmlformats-officedocument.presentationml.slide+xml"/>
  <Override PartName="/ppt/slides/slide32.xml" ContentType="application/vnd.openxmlformats-officedocument.presentationml.slide+xml"/>
  <Override PartName="/ppt/slides/slide202.xml" ContentType="application/vnd.openxmlformats-officedocument.presentationml.slide+xml"/>
  <Override PartName="/ppt/slides/slide205.xml" ContentType="application/vnd.openxmlformats-officedocument.presentationml.slide+xml"/>
  <Override PartName="/ppt/slides/slide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108.xml" ContentType="application/vnd.openxmlformats-officedocument.presentationml.slide+xml"/>
  <Override PartName="/ppt/slides/slide176.xml" ContentType="application/vnd.openxmlformats-officedocument.presentationml.slide+xml"/>
  <Override PartName="/ppt/slides/slide201.xml" ContentType="application/vnd.openxmlformats-officedocument.presentationml.slide+xml"/>
  <Override PartName="/ppt/slides/slide199.xml" ContentType="application/vnd.openxmlformats-officedocument.presentationml.slide+xml"/>
  <Override PartName="/ppt/slides/slide20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200.xml" ContentType="application/vnd.openxmlformats-officedocument.presentationml.slide+xml"/>
  <Override PartName="/ppt/slides/slide198.xml" ContentType="application/vnd.openxmlformats-officedocument.presentationml.slide+xml"/>
  <Override PartName="/ppt/slides/slide209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66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132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31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68.xml" ContentType="application/vnd.openxmlformats-officedocument.presentationml.slide+xml"/>
  <Override PartName="/ppt/slides/slide1.xml" ContentType="application/vnd.openxmlformats-officedocument.presentationml.slide+xml"/>
  <Override PartName="/ppt/slides/slide16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  <p:sldId id="436" r:id="rId183"/>
    <p:sldId id="437" r:id="rId184"/>
    <p:sldId id="438" r:id="rId185"/>
    <p:sldId id="439" r:id="rId186"/>
    <p:sldId id="440" r:id="rId187"/>
    <p:sldId id="441" r:id="rId188"/>
    <p:sldId id="442" r:id="rId189"/>
    <p:sldId id="443" r:id="rId190"/>
    <p:sldId id="444" r:id="rId191"/>
    <p:sldId id="445" r:id="rId192"/>
    <p:sldId id="446" r:id="rId193"/>
    <p:sldId id="447" r:id="rId194"/>
    <p:sldId id="448" r:id="rId195"/>
    <p:sldId id="449" r:id="rId196"/>
    <p:sldId id="450" r:id="rId197"/>
    <p:sldId id="451" r:id="rId198"/>
    <p:sldId id="452" r:id="rId199"/>
    <p:sldId id="453" r:id="rId200"/>
    <p:sldId id="454" r:id="rId201"/>
    <p:sldId id="455" r:id="rId202"/>
    <p:sldId id="456" r:id="rId203"/>
    <p:sldId id="457" r:id="rId204"/>
    <p:sldId id="458" r:id="rId205"/>
    <p:sldId id="459" r:id="rId206"/>
    <p:sldId id="460" r:id="rId207"/>
    <p:sldId id="461" r:id="rId208"/>
    <p:sldId id="462" r:id="rId209"/>
    <p:sldId id="463" r:id="rId210"/>
    <p:sldId id="464" r:id="rId211"/>
    <p:sldId id="465" r:id="rId212"/>
    <p:sldId id="466" r:id="rId213"/>
    <p:sldId id="467" r:id="rId214"/>
    <p:sldId id="468" r:id="rId215"/>
    <p:sldId id="469" r:id="rId216"/>
    <p:sldId id="470" r:id="rId217"/>
    <p:sldId id="471" r:id="rId218"/>
    <p:sldId id="472" r:id="rId219"/>
    <p:sldId id="473" r:id="rId220"/>
    <p:sldId id="474" r:id="rId2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slide" Target="slides/slide181.xml"/><Relationship Id="rId184" Type="http://schemas.openxmlformats.org/officeDocument/2006/relationships/slide" Target="slides/slide182.xml"/><Relationship Id="rId185" Type="http://schemas.openxmlformats.org/officeDocument/2006/relationships/slide" Target="slides/slide183.xml"/><Relationship Id="rId186" Type="http://schemas.openxmlformats.org/officeDocument/2006/relationships/slide" Target="slides/slide184.xml"/><Relationship Id="rId187" Type="http://schemas.openxmlformats.org/officeDocument/2006/relationships/slide" Target="slides/slide185.xml"/><Relationship Id="rId188" Type="http://schemas.openxmlformats.org/officeDocument/2006/relationships/slide" Target="slides/slide186.xml"/><Relationship Id="rId189" Type="http://schemas.openxmlformats.org/officeDocument/2006/relationships/slide" Target="slides/slide187.xml"/><Relationship Id="rId190" Type="http://schemas.openxmlformats.org/officeDocument/2006/relationships/slide" Target="slides/slide188.xml"/><Relationship Id="rId191" Type="http://schemas.openxmlformats.org/officeDocument/2006/relationships/slide" Target="slides/slide189.xml"/><Relationship Id="rId192" Type="http://schemas.openxmlformats.org/officeDocument/2006/relationships/slide" Target="slides/slide190.xml"/><Relationship Id="rId193" Type="http://schemas.openxmlformats.org/officeDocument/2006/relationships/slide" Target="slides/slide191.xml"/><Relationship Id="rId194" Type="http://schemas.openxmlformats.org/officeDocument/2006/relationships/slide" Target="slides/slide192.xml"/><Relationship Id="rId195" Type="http://schemas.openxmlformats.org/officeDocument/2006/relationships/slide" Target="slides/slide193.xml"/><Relationship Id="rId196" Type="http://schemas.openxmlformats.org/officeDocument/2006/relationships/slide" Target="slides/slide194.xml"/><Relationship Id="rId197" Type="http://schemas.openxmlformats.org/officeDocument/2006/relationships/slide" Target="slides/slide195.xml"/><Relationship Id="rId198" Type="http://schemas.openxmlformats.org/officeDocument/2006/relationships/slide" Target="slides/slide196.xml"/><Relationship Id="rId199" Type="http://schemas.openxmlformats.org/officeDocument/2006/relationships/slide" Target="slides/slide197.xml"/><Relationship Id="rId200" Type="http://schemas.openxmlformats.org/officeDocument/2006/relationships/slide" Target="slides/slide198.xml"/><Relationship Id="rId201" Type="http://schemas.openxmlformats.org/officeDocument/2006/relationships/slide" Target="slides/slide199.xml"/><Relationship Id="rId202" Type="http://schemas.openxmlformats.org/officeDocument/2006/relationships/slide" Target="slides/slide200.xml"/><Relationship Id="rId203" Type="http://schemas.openxmlformats.org/officeDocument/2006/relationships/slide" Target="slides/slide201.xml"/><Relationship Id="rId204" Type="http://schemas.openxmlformats.org/officeDocument/2006/relationships/slide" Target="slides/slide202.xml"/><Relationship Id="rId205" Type="http://schemas.openxmlformats.org/officeDocument/2006/relationships/slide" Target="slides/slide203.xml"/><Relationship Id="rId206" Type="http://schemas.openxmlformats.org/officeDocument/2006/relationships/slide" Target="slides/slide204.xml"/><Relationship Id="rId207" Type="http://schemas.openxmlformats.org/officeDocument/2006/relationships/slide" Target="slides/slide205.xml"/><Relationship Id="rId208" Type="http://schemas.openxmlformats.org/officeDocument/2006/relationships/slide" Target="slides/slide206.xml"/><Relationship Id="rId209" Type="http://schemas.openxmlformats.org/officeDocument/2006/relationships/slide" Target="slides/slide207.xml"/><Relationship Id="rId210" Type="http://schemas.openxmlformats.org/officeDocument/2006/relationships/slide" Target="slides/slide208.xml"/><Relationship Id="rId211" Type="http://schemas.openxmlformats.org/officeDocument/2006/relationships/slide" Target="slides/slide209.xml"/><Relationship Id="rId212" Type="http://schemas.openxmlformats.org/officeDocument/2006/relationships/slide" Target="slides/slide210.xml"/><Relationship Id="rId213" Type="http://schemas.openxmlformats.org/officeDocument/2006/relationships/slide" Target="slides/slide211.xml"/><Relationship Id="rId214" Type="http://schemas.openxmlformats.org/officeDocument/2006/relationships/slide" Target="slides/slide212.xml"/><Relationship Id="rId215" Type="http://schemas.openxmlformats.org/officeDocument/2006/relationships/slide" Target="slides/slide213.xml"/><Relationship Id="rId216" Type="http://schemas.openxmlformats.org/officeDocument/2006/relationships/slide" Target="slides/slide214.xml"/><Relationship Id="rId217" Type="http://schemas.openxmlformats.org/officeDocument/2006/relationships/slide" Target="slides/slide215.xml"/><Relationship Id="rId218" Type="http://schemas.openxmlformats.org/officeDocument/2006/relationships/slide" Target="slides/slide216.xml"/><Relationship Id="rId219" Type="http://schemas.openxmlformats.org/officeDocument/2006/relationships/slide" Target="slides/slide217.xml"/><Relationship Id="rId220" Type="http://schemas.openxmlformats.org/officeDocument/2006/relationships/slide" Target="slides/slide218.xml"/><Relationship Id="rId221" Type="http://schemas.openxmlformats.org/officeDocument/2006/relationships/slide" Target="slides/slide219.xml"/><Relationship Id="rId2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5A8B-828A-4E9B-98EA-91215634D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8C14-B891-48D7-A660-6758A818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A93A-406F-4905-9C59-AE7F141B5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D945-90F4-40BF-B1D8-774585718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7AF0-DBA9-4B6F-98FE-00A78A26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B676-FCC4-44CC-BDFF-86426664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B9FA-D4BC-4CD7-BD1E-3B153439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A33F-9AA6-48A7-B787-E059960F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5DC4-E7E6-43F6-AFE6-959C20BA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6E9E-CA8A-4553-926A-2C429958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78B5-371F-4DD7-BE05-98446C18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02F9-D2D7-4C8B-B134-C0919FB9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Prepared by Tablígh Sub-Committee of ISIJ of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5F5F-0CDB-4302-9D62-03BA64930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AAD7-4D92-48EB-9C6D-F35984DE3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51C5-9728-4D87-B8DD-2C347B9A7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ØãäËãÆ ákátá¶ CáÆ áÀãWánåkâ»ãQ åeãÃå|áXåsB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and set right what is corrupt in me through Your power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9070-E0FB-4C7F-AF23-2967D2F36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âVåoá»áXå¶B BálãH á½ãoå×á² ãÁBáKâtãÂ ã­Òâ£âhåÂCãQ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to humble myself in asking from someone else when I am poor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118A-7AF7-49B7-B93B-9C5DDB9BC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âYåRãÎán BálãH áÀáÊÑâj åÌáÆ ÔáÂãH ã­âäoá£áäXÂCãQ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r to plead with someone less than You when I fear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807F-C97A-481D-94F0-D1328678B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Karbala"/>
              </a:rPr>
              <a:t>áÀá¢Báoå®ãHáÑ áÀá¯åËáÆáÑ áÀáÊáÙåmãg áÀãÂámãQ áä¼ãdáXåsáGá¶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l-Arial"/>
                <a:ea typeface="MS Mincho"/>
              </a:rPr>
              <a:t>for then I would deserve Your abandonment, Your withholding, and Your turning away,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FE28-BA97-4095-96F6-379D150F7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Ì×ãÇãcBáäoÂB áÈácånáF EáÖ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Most Merciful of the merciful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2A1A-248F-42A3-9616-7C229A48B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Karbala"/>
              </a:rPr>
              <a:t>Øã®Ñân Øã¶ âÉCá§å×áäxÂB Øã»åÃâÖ CáÆ åÄá¯å_B áäÈ~âÏ~áäÃÂB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Karbala"/>
              </a:rPr>
              <a:t>ãkátádåÂB áÑ ØãäËá«áäXÂB áÑ ØãäËáÇáäXÂB áÌãÆ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make the wishing, the doubt, and the envy which Satan throws into my heart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D4B8-52DC-4B05-A950-19C299064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ãXáÇá«á¯ãÂ Bæoå¾ãl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 remembrance of Your mightiness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A8FC-39BE-4561-BFAA-68F781CCF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ãWánåkâº Øã¶ Bæoâä¿á·áW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 reflection upon Your power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4886-A4DE-4CB7-8410-BFC25DFB9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½ãäÑâká® ÔáÃá® Bæo×ãQåkáW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a devising against Your enemy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B892-566A-4A38-963F-64F75B39A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ØãÊCátãÂ ÔáÃá® Óáoå_áF EáÆ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Make everything he causes to pass over my tongu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7353-3F17-44A4-BD59-190B0096E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Karbala"/>
              </a:rPr>
              <a:t>è</a:t>
            </a: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¡åoã® ãÈåXáw åÑáF èoå`áÎ åÑáF èyådâ¶ ãUá«å·áÂ åÌã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Äã¦CáQ ãTájCáÏáw åÑá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l-Arial"/>
                <a:ea typeface="MS Mincho"/>
              </a:rPr>
              <a:t>- the indecent or ugly words,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l-Arial"/>
                <a:ea typeface="MS Mincho"/>
              </a:rPr>
              <a:t>the maligning of good repute,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l-Arial"/>
                <a:ea typeface="MS Mincho"/>
              </a:rPr>
              <a:t>the false witness,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18CF-3D37-45BE-9E9F-EED685CD2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äÈ~âÏ~áäÃÂB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BA87-ADDD-4CDB-8EA5-D2A92AFD1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èoã¢Các ãäSás åÑáF èSãMEá² èÌãÆåKâÆ ãPCá×ãXå²B ãÑáF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the speaking ill of an absent man of faith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r the reviling of one present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1135-C30D-4A64-B4D7-36C7A63E3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áÂ ãkÇádåÂCãQ Cæ»å§âÊ áÀãÂál áÐáRåwáF EáÆ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all things similar - a speech in praise of You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4B14-E3CF-49DE-858C-8C6139341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å×áÃá® ãAEáËáä\ÂB Øã¶ CæºBáoå²ãH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 pursual of eulogizing You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FD85-3389-483B-9EB0-A58FB7A16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½ãk×ã`åÇáW Øã¶ CæQCáÎál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 excursion in magnifying You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34EF-F9E7-4580-9473-9F922CEB3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ãXáÇå¯ãËãÂ Bæoå¿âw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 thanksgiving for Your favour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419F-2287-46F2-A62F-ECBFAD501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ãÊCátåcãIãQ Cæ¶BáoãXå®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 acknowledgement of Your beneficenc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4EE3-81F2-40D4-9E9F-95D8165EA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ãËáËãÇãÂ æAEá|åcãH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an enumeration of Your kindnesses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9605-FEF6-4FA9-87CE-16ED2CFAD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FC28-5806-49CF-94B2-597534DBD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ØãäËá® ã°å¶áäkÃãÂ ç¼×ã§âÆ áYåÊFáÑ áäÌáÇáÃåªâF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let me not be wronged while You can repel from m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9C15-89BA-494B-8808-F78DF1141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Karbala"/>
              </a:rPr>
              <a:t>ØãäËãÆ ã¤åRá»åÂB ÔáÃá® ânãjCá»åÂB áYåÊáF áÑ áäÌáÇãÃåªáF áÙ áÑ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let me not do wrong while You are powerful over holding me back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B1C0-6C44-4F66-A6F2-5CD66E0CA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ÐãQ âÅCáÇãXåÎãÙB ØãËâÃá³åxáÖ CáÆ ØãËã·å¾B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spare me the concerns which distract me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F3C5-91B7-405B-A2A2-E52C6CAA5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ØãXáÖBákãÎ áÀåXáËá¿åÆáF åkáºáÑ áäÌáäÃã¢áF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let me not be misguided while You are able to guide m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75F4-A0C6-4595-90CD-FC08F559E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Øã¯åsâÑ á½ãkåËã® åÌãÆáÑ áäÉáoã»áXå¶áF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let me not be poor while with You is my plenty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A684-15E2-48DE-BC9F-F0F60EDCD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Õãkå_âÑ á½ãkåËã® åÌãÆáÑ áäÌá×á³å¦áF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let me not be insolent while from You comes my wealth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46AF-E611-4835-BC2F-0DFEDB3D5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âVåká¶áÑ áÀãWáoã·å³áÆ ÔáÂãH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I come to Your forgiveness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3E04-5A79-4B9F-A6CC-C479D791C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âVåká|áº á½ãÒå·á® ÔáÂãH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I go straight to Your pardon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8D88-33EB-4ACD-8439-62E3DBCB2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âYå»áXåwB á½ãpâÑCá`áW ÔáÂãH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I yearn for Your forbearanc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D452-5BB4-4A40-99B8-FE2278021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âYå»ã[áÑ áÀãÃå£á·ãQ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I trust in Your bounty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FBE1-4EDE-4703-950E-4883A9909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áWáoã·å³áÆ ØãÂ âSã_ÒâÖ CáÆ ÕãkåËã® áuå×áÂ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but there is nothing with me to make me warrant Your forgiveness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4A45-42C1-4CEB-A749-97AF459CD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½áÒå·á® ãÐãQ âä¼ãdáXåsáF EáÆ ØãÃáÇá® Øã¶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nothing in my works to make me merit Your pardon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0949-F26D-40AE-BD19-6E5D4DE9A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Karbala"/>
              </a:rPr>
              <a:t>áÀâÃå£á¶ áÙãH Øãtå·áÊ ÔáÃá® âYåÇá¿ác åÉáF ákå¯áQ ØãÂ CáÆ áÑ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nothing on my behalf after I judge my soul but Your bounty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E42E-1096-4B79-9651-E6D65744D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âÐåËá® Bæká² ØãËâÂáGåtáW CáÇãQ ØãËåÃãÇå¯áXåsB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employ me in that about which You will ask me tomorrow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ACDD-B397-4599-B20B-F524AF38A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ÐãÂD áÑ èkáäÇádâÆ ÔáÃá® ãäÄá|á¶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so bless Muhammad and his Househol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A705-C592-40C8-8E83-D4C6476AA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äØáÃá® åÄáä£á·áW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bestow Your bounty upon me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088D-12C6-437B-BB77-65167529C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ÓákâÏåÂCãQ ØãËå»ã§åÊáFáÑ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make my speech be guidanc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1AB0-90D5-43A5-8EA6-DB7C51A1E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ÓáÒå»áäXÂB ØãËåÇãÏåÂáF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inspire me with reverential fear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5CA5-0B2D-4298-8898-9BC51B04C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Ôá¾åpáF áØãÎ ØãXáäÃãÂ ØãËå»ãä¶áÑ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give me success in that which is most pur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D51C-C517-45D9-8110-10AF12220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Ôá¢ånáF áÒâÎ CáÇãQ ØãËåÃãÇå¯áXås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employ me in what is most pleasing to You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F087-4724-4A21-9D89-EF1C94DB6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ÔáÃå\âÇåÂB áUá»Öãoáä§ÂB áØãQ åÀâÃåsB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let me tread the most exemplary path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4B74-594F-46B9-BD9F-8C8A5B6E8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Cá×åcáFáÑ âVÒâÆáF áÀãXáäÃãÆ ÔáÃá® ØãËåÃá¯å_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make me live and die in Your creed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9FA8-4821-4A20-BF98-B2431848C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C1DA-63D1-4653-B3D5-2353E3196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jCá|ãXåºãÙCãQ ØãËå¯ãäXáÆ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give me to enjoy moderation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AF0E-437D-40D6-9A00-22530F926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âÐáÂ ØãËáXå»áÃág CáÇ×ã¶ ØãÆCáäÖáF å±ãoå·áXås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let me pass my days in that for which You have created me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C390-13DF-4E93-A943-F68AE47DD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jBákáätÂB ãÄåÎáF åÌãÆ ØãËåÃá¯å_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make me into one of the people of right behaviour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8D7D-72C1-484A-9551-F3A988B9C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jCáwáäoÂB ãUáäÂãjáF åÌãÆ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the proofs of right conduct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2E02-1E5A-4FD5-82A9-2F067C098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jCáRã¯åÂB ØãdãÂCá{ åÌãÆ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the servants of righteousness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5749-0657-4958-8685-A18DEA238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jCá¯áÇåÂB ápåÒá¶ ØãËåºâpånB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provide me with triumph at the place of Return (to You)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7D09-50D2-4F6F-B469-897A3E226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jCá{åoãÇåÂB áUáÆáÚás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safety from the Ambush (i.e. Hell)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B0DB-A870-495F-B54C-9F75C9812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CáÏâ|ãäÃáhâÖ CáÆ Øãtå·áÊ åÌãÆ áÀãtå·áËãÂ åmâg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take to Yourself from my soul what will purify it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A7D3-37DB-418B-9AC8-8F391AD91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CáÏâdãÃå|âÖ CáÆ Øãtå·áÊ åÌãÆ Øãtå·áËãÂ ã¼åQáF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leave for my soul that of my soul that will set it right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3C46-C8C6-4607-AA89-4DFC553BD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CáÏâÇã|å¯áW åÑáF çUá¿ãÂCáÎ Øãtå·áÊ áäÉãIá¶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for my soul will perish unless You preserve it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6BAB-9016-40BF-9B4B-CE3DDDB0A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âYåÊãqác åÉãH ØãWáäkâ® áYåÊáF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You are my stores when I sorrow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1F9E-9EF9-471D-AE84-48E46B527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âYåÆãoâc åÉãH Øã¯á`áXåËâÆ áYåÊáF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You are my recourse when I am deprive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6B9A-2584-4E00-9BFA-B99696CFD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oá§áRÂCãQ ØãäËãXå·áW áÙ áÑ áÀãºåpãn Øã¶ áäØáÃá® å°ãsåÑáF áÑ ØãËãËå²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Free me from need, expand Your provision toward me, and tempt me not with ingratitude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B09C-C2F3-476F-9039-F65441212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âYå[ãoá¾ åÉãH ØãXá[Cá³ãXåsB áÀãQ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from You I seek aid when trouble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5461-DA8E-4CBE-AF8F-613F07F31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ç¸áÃág áVCá¶ CáäÇãÆ á½ákåËã®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with You is a substitute for everything gone by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435D-BE89-40A1-AB1A-3B845CCD0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çbáÚá{ ákátá¶ CáÇãÂ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 correction for everything corrupte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3B92-56F6-4E92-8EBD-8B822CE9E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ço×ã×å³áW áVåoá¿åÊáF EáÇ×ã¶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a change from everything You disapprov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11C8-C170-4658-8173-91A4D8406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Uá×ã¶Cá¯åÂCãQ ãAáÚáRåÂB áÄåRáº áäØáÃá® åÌâËåÆCá¶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So show kindness to me with well-being before affliction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1F07-F3E8-485D-8BD0-89C3F2389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Tákã`åÂCãQ ãSáÃáä§ÂB áÄåRáº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wealth before asking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5EC5-55A7-440F-8F1A-6B8152F6D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jCáwáäoÂCãQ ãÁáÚáä£ÂB áÄåRáº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right conduct before misguidance;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1901-3B7F-4AF5-9997-CBCF98FEF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jCáRã¯åÂB ãTáäoá¯áÆ áUáÊâKáÆ ØãËã·å¾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suffice me against the burden of shame toward the servants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BC71-5497-4359-BEB3-27CE510E9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jCá¯áÇåÂB ãÅåÒáÖ áÌåÆáF ØãÂ åSáÎ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give me security on the Day of Return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71BA-322B-4EB1-AECE-61ADBF953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jCáwånãåßB áÌåtâc ØãËådáËåÆ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grant me excellent right guidance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98B8-1201-4330-BEB1-228B76BA5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oåRã¿åÂCãQ ØãäËá×ãÃáXåRáW áÙ áÑ ØãÊáäqã®áF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Exalt me and afflict me not with pride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97EC-C347-4811-9D83-FCB8D73B2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ÐãÂD áÑ èk~áäÇádâÆ ÔáÃá® ãäÄ~á{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DDD2-5260-4AF1-ABBE-181BC2ACF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ã·å§âÃãQ ØãäËá® åFánåj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repel from me through Your gentleness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2339-63E6-478E-AC14-880DBF623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ãXáÇå¯ãËãQ ØãÊâmå²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feed me through Your favour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3F24-D014-40B5-AC78-1D124638C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ãÆáoá¿ãQ ØãËådãÃå{áF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set me right through Your generosity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DBB6-76FD-4EC2-A88F-8083AEEA5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ã¯åËâ|ãQ ØãÊãÑBáj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heal me through Your benefaction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941B-6F10-4A4A-8BA8-C1E52C7B2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½Bánál Øã¶ ØãËáäÃãªáF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shade me in Your shelter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91EE-1E89-4F06-8A76-AC506A5C6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½Cá¢ãn ØãËåÃãäÃá_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wrap me in Your good pleasur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CB72-6A9C-4D7A-B448-8C76E2E42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Karbala"/>
              </a:rPr>
              <a:t>CáÎBák~åÎáãÛ ânÒ~âÆâåÛB áäØáÃá® åYáÃá¿áXåwB BálãH ØãËå»ãä¶áÑ áÑ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l-Arial"/>
                <a:ea typeface="MS Mincho"/>
              </a:rPr>
              <a:t>and give me success to reach the most guided of affairs when affairs confuse me,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2E3E-E4D3-44EE-B63B-FCC350F28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CáÎCá¾åpáãÛ âÁCáÇå®áÛBB ãY~áÏáQCáxáW BálãH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the purest of works when works seem similar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E133-0F05-4416-A4C0-D9F15F8C5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CáÎCá¢ånáãÛ âÄáÃãÇåÂB ãYá£áºCáËáW BálãH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the most pleasing to You of creeds when creeds conflict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180F-2C1D-48D3-BB92-3E299F389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Så`â¯åÂCãQ ØãWájCáRã® åkãtå·âW áÙ áÑ áÀáÂ ØãÊåkãäRá®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Make me worship You and corrupt not my worship with self-admiration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6403-F2D8-4C56-B51D-6A594E765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A8E1-FC5D-4C60-A084-1C5B949F0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UáÖCá·ã¿åÂCãQ ØãËå_ãäÒáW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crown me with sufficiency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C3A0-EF0A-4589-AD97-F817C91AA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UáÖáÙáÒåÂB áÌåtâc ØãËåÇâs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place in me excellent guardianship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44A3-03B4-4F4E-A1F7-C57222210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UáÖBákãÏåÂB á¹åkã{ ØãÂ åSáÎ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give me to guide correctly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FE13-755A-400C-8CB3-2EFAD9134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Uá¯áätÂCãQ ØãäËãXå·áW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tempt me not with plenty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6D8C-BEEA-494A-A56A-D6F9123E0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Uá®áäkÂB áÌåtâc ØãËådáËåÆ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grant me excellent eas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5ACC-9F7C-4AA2-A49A-ED79241A3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Bæäká¾ Bæäká¾ Øãxå×á® åÄá¯å`áW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make not my life toil and troubl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6637-74EF-41AF-9118-96DF86995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Bæäján áäØáÃá® ØãMEá®âj áäjâoáW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refuse not my supplication in rejection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123A-C0DF-46E1-B844-CC58D5928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Bæäkã¢ áÀáÂ âÄá¯å_áF áÙ ØãäÊãIá¶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for I make none rival to You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A094-B561-499C-BAFF-5C94A1707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BæäkãÊ áÀá¯áÆ Òâ®åjáF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I supplicate none with You as equal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D2CB-E1EB-4744-BD19-3A411E228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äÌáÇåÂCãQ âÐå»ádåÇáW áÙ áÑ áoå×áhåÂB áÕãkáÖ ÔáÃá® ãrCáäËÃãÂ ãoå_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Let good flow out from my hands upon the people and efface it not by my making them feel obliged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5A95-F1A8-418B-8361-F7D0A5AA8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B994-2E1F-4531-8B62-57DE1F62E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µáoáätÂB áÌãÆ ØãËå¯áËåÆ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hold me back from prodigality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EA71-A2DA-4C49-BD41-8AE3CDF54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¸áÃáäXÂB áÌãÆ Øãºåpãn åÌãä|ác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fortify my provision against ruin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C833-2D75-4A3A-A390-8FE1F3781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Ð×ã¶ ãUá¾áoáRåÂCãQ ØãXá¿áÃáÆ åoãä¶áÑ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increase my possessions through blessing them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F915-E2A1-48D2-8E64-6957BA11D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Karbala"/>
              </a:rPr>
              <a:t>âÐåËãÆ â¼ã·åÊâF EáÇ×ã¶ ãäoãRåÃãÂ ãUáÖBákãÏåÂB áÄ×ãRás ØãQ åSã{áF áÑ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l-Arial"/>
                <a:ea typeface="MS Mincho"/>
              </a:rPr>
              <a:t>and set me upon the path of guidance through piety in what I spend!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3B03-8EA2-416B-AA04-95D54147F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D0FD-EA27-44C5-81DC-870AF0D14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PCátãXå¾ãÙB áUáÊÑâKáÆ ØãËã·å¾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spare me the burden of earning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B857-2CA1-4F48-9EAF-B06704B8D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èPCátãXåcB ãoå×á² åÌãÆ ØãËåºâpån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provide for me without reckoning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BD0A-C061-4D1A-A1BA-972D8D697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SáÃáä§ÂCãQ áÀãWájCáRã® åÌá® áÄã³áXåwáF áÚá¶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lest I be distracted from Your worship through seeking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B425-D78A-499C-BD73-6B1F96299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Sátå¿áÇåÂB ãVCá¯ãRáW áoå{ãH áÄãÇáXåcáF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carry the load of earning’s ill results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DF37-4D46-4C7D-B783-51A5275BD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¹áÚågáÛBB áØãÂCá¯áÆ ØãÂ åSáÎ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Give me the highest moral traits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74C7-3D16-4144-A2C9-A4DC227B5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âSâÃå¦áF EáÆ áÀãWánåkâ»ãQ ØãËåRãÃå¦áGá¶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bestow upon me what I seek through Your power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AA9E-5C08-4152-91D4-D43641BB0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âSáÎånáF EáäÇãÆ áÀãWáäqã¯ãQ ØãÊåoã_áF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grant me sanctuary from what I fear through Your might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62E8-A3D9-4115-B224-4B6B7722A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10AE-D115-4F8B-AEE0-AC725AD6D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nCátá×åÂCãQ ØãÏå_áÑ åÌâ{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save my face through eas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3E85-6043-40AB-A7C6-258964F2D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nCáXåºãåßCãQ ØãÎCá_ åÁãmáXåRáW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demean not my dignity through neediness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E08D-275F-49F1-99E9-C43D5E8EE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ãºåpãn áÄåÎáF á¹ãpåoáXåsáGá¶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lest I seek provision from those whom You have provide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3F8B-C9A1-41F6-B4D7-C8DD8379D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ã»åÃág ánBáoãw áØã§å¯áXåsáF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ask for bestowal from the worst of Your creatures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9636-A49B-4943-9A00-5D361DDF4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ØãÊCá§å®áF åÌáÆ ãkåÇádãQ áÌãXáXå¶áGá¶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Then I would be tried by praising him who gave to m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6916-450D-4391-A13D-A3F057114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ØãËá¯áËáÆ åÌáÆ ãäÅámãQ ÔáÃáXåQâF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afflicted with blaming him who held back from m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5D69-D40B-483F-9E19-A339059FA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°åËáÇåÂBáÑ ãAEá§å®ãåßB âäØãÂáÑ åÈãÏãÊÑâj åÌãÆ áYåÊáF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while You - not they - are patron of giving and holding back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88D3-69DE-4FF5-B6D1-4ECE92C81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the family of Muhammad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6900-F6AE-41E7-9C63-47D8A2FA0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oåhá·åÂB áÌãÆ ØãËåÇã|å®B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and preserve me from vainglory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212A-0E45-4C9F-8210-07253C204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A0B1-0C1C-436F-BA4E-87FF46AD3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èTájCáRã® Øã¶ æUáädã{ ØãËåºâpån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provide me with soundness in worship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980C-DA37-4919-B3AF-4EEE29DF5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èTájCáÎáp Øã¶ Cæ²Báoá¶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detachment in renunciation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4512-CC6E-4474-956F-96F95CDE7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èÁCáÇå¯ãXåsB Øã¶ CæÇåÃã®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knowledge put into action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400E-E71C-45BB-A4D5-603AF15AA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èÁCáÇå_ãH Øã¶ Cæ®ánáÑ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abstinence in measure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97F3-C763-4C55-A62A-399AE95FB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ØãÃá_áF á½ãÒå·á¯ãQ åÈãXågB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seal my term with Your pardon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81F4-EE37-4202-94C5-F3A724202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ØãÃáÆáF áÀãXáÇåcán ãAEá_án Øã¶ å¼ãä»ác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verify my expectation in hoping for Your mercy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B8F8-4E95-44B6-A364-CF730B052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ØãÃâRâs á½Cá¢ãn ã±ÒâÃâQ ÔáÂãH åÄãäÏás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smooth my paths to reach Your good pleasur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025F-30D3-44AC-9177-E83F3227C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ØãÃáÇá® ØãÂBáÒåcáF ã°×ãÇá_ Øã¶ åÌãätác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make my works good in all my states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D6FF-FA0E-4D69-A161-300428B00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59D2-C5A3-433C-BF7A-ACDBC4A00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äÈ~âÏ~áäÃÂB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65E0-5600-4033-A19A-C68B14B00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UáÃå·á³åÂB ãVCáºåÑáF Øã¶ á½ãoå¾ãmãÂ ØãËåÏãäRáÊ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incite me to remember You in times of heedlessness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D229-B013-40A4-A75E-875808C85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UáÃåÏâÇåÂB ãÅCáäÖáF Øã¶ áÀãXá®Cá§ãQ ØãËåÃãÇå¯áXås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employ me in Your obedience in days of disregar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78A0-8CAD-4893-A6BF-A59F4543A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æUáÃåÏás æÚ×ãRás áÀãXáäRádáÆ ÔáÂãH ØãÂ åaáÏåÊ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pen a smooth road for me to Your lov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2558-3395-49AA-AB84-637DAA229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TáoãgåÝB áÑ Cá×åÊâäkÂB áoå×ág CáÏãQ ØãÂ åÄãÇå¾áF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complete for me thereby the good of this world and the next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E1A5-759C-46AB-9451-6B918D8E5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Ñ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B9E3-9F66-4FA6-84A9-DD317F11A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Karbala"/>
              </a:rPr>
              <a:t>âÐáÃåRáº áÀã»åÃág åÌãÆ èkácáF ÔáÃá® áYå×áäÃá{ CáÆ ãÄá£å¶áGá¾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the best You have blessed any of Your creatures before him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9F31-AF6D-4325-A178-208C93673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âÍákå¯áQ èkácáF ÔáÃá® èäÄá|âÆ áYåÊáF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will bless any of them after him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C05F-DA4C-4758-A9F4-FDB237881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Karbala"/>
              </a:rPr>
              <a:t>æUáËátác ãTáoãgåÝB Øã¶ áÑ æUáËátác Cá×åÊâäkÂB Øã¶ CáËãWD áÑ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</a:t>
            </a:r>
            <a:r>
              <a:rPr b="1" i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give to us in this World good, and in the next world goo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7376-6EB0-48C9-B7DA-A97341EE8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nCáäËÂB áPBámá® áÀãXáÇåcáoãQ ØãËãº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protect me through Your mercy</a:t>
            </a: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 </a:t>
            </a:r>
            <a:r>
              <a:rPr b="1" i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from the chastisement of the Fire! </a:t>
            </a: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(2:201)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BB85-A0EB-4A94-A63A-4162811C8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the family of Muhammad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4855-7E02-4A32-B13F-2E8A8CB72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tå·áÊ ákåËã® ØãËáXå§á§ác áäÙãH æUá_ánáj ãrCáäËÂB Øã¶ ØãËå¯á¶åoáW áÙ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ÏáÃå\ã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raise me not a single degree before the people without lowering me its like in myself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304F-487C-4E71-A98D-A1A669C15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UáËã¦CáQ æUáäÂãl ØãÂ áYå[ákåcáF áäÙãH DæoãÎCáª Bæäqã® ØãÂ åZãkådâW áÙ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Îãnáká»ãQ Øãtå·áÊ ákåËã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bring about no outward exaltation for me without an inward abasement in myself to the same measure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DCFA-63D9-48C2-A8A4-6C54D6F99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èkáäÇádâÆ ãÁDáÑ èkáäÇádâÆ ÔáÃá® ãäÄá{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the Household of Muhamma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C10B-0A99-478D-A190-EA71472A0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ÐãQ âÁãkåRáXåsáF áÙ èeãÂCá{ ÓækâÏãQ ØãËå¯ãäXáÆ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give me to enjoy a sound guidance which I seek not to replac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4F91-C2C9-490A-B12E-BE4E2B22A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CáÏåËá® â´ÖãpáF áÙ èä¼ác ãUá»Öãoá¦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a path of truth from which I swerve not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9089-9E9E-4953-B824-98F42A64F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CáÏ×ã¶ âäÀâwáF áÙ èkåwân ãUáä×ãÊ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an intention of right conduct in which I have no doubts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36A3-F1DE-40ED-BEEC-8F3EFA64B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Karbala"/>
              </a:rPr>
              <a:t>áÀãXá®Cá¦ Øã¶ æUáÂåmãQ ÕãoåÇâ® áÉCá¾ CáÆ ØãÊåoãäÇá® áÑ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Let me live as long as my life is a free gift in obeying You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F9E2-97C7-42D1-9834-23E80D71F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Karbala"/>
              </a:rPr>
              <a:t>áÀå×áÂãH ØãËå£ãRåºCá¶ ãÉCá§å×áäxÃãÂ Cæ¯áWåoáÆ ÕãoåÇâ® áÉCá¾ BálãIá¶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but if my life should become a pasture for Satan, seize me to Yourself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4A8D-3AE8-45FA-88C4-9F6A0E9D7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äÈ~âÏ~áäÃÂB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E8C2-0CCE-4E0D-99C1-095AE1593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áäØáÂãH áÀâXå»áÆ á¼ãRåtáÖ åÉáF áÄåRáº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before Your hatred overtakes me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9D29-E7D4-43B7-9A99-7E9CF6827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áäØáÃá® áÀâRá£á² áÈã¿ådáXåtáÖ åÑáF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or Your wrath against me becomes firm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A86A-7888-4DD8-A9AD-7443E4383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Karbala"/>
              </a:rPr>
              <a:t>CáÏáXådáÃå{áF áäÙãH ØãäËãÆ âPCá¯âW æUáÃå|ág å­ákáW áÙ áäÈ~âÏ~áäÃÂB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deposit in me no quality for which I will be faulted, unless You set it right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9642-AA83-4CAB-BA26-A14853627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CáÏáXåËáätác áäÙãH EáÏãQ âSáäÊáJâF æUáRãMEá® áÙ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no flaw for which I will be blamed, unless You make it beautiful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7CCA-457F-43E9-B572-EF5B4ED64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CáÏáXåÇáÇåWF áäÙãH æUá|ãºCáÊ áäØã¶ æUáÆÑâoå¾âF áÙ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no deficient noble trait, unless You complete it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FC2E-3340-4DEA-8A29-8C3C62848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èkáäÇádâÆ ãÁDáÑ èkáäÇádâÆ ÔáÃá® ãäÄá{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the Household of Muhamma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B3C7-8B09-4C5D-A079-0D1285897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UáäRádáÇåÂB ãÉCáËáäxÂB ãÄåÎáF ãUá£å³ãQ åÌãÆ ØãËåÂãkåQáF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replace for me the animosity of the people of hatred with lov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57C3-E046-4C18-86C9-CB60A9F0C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áTáäjáÒáÇåÂB ãØå³áRåÂB ãÄåÎáF ãkátác åÌãÆ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the envy of the people of insolence with affection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126D-BE59-4EBD-8D81-844BC0044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Uá»ãä\ÂB ãbáÚáä|ÂB ãÄåÎáF ãUáäËãª åÌãÆ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the suspicion of the people of righteousness with trust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0A67-9C46-457B-BFF1-1C3C5F680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áUáÖáÙáÒåÂB áÌå×áÊåjáÛBB ãTáÑBáká® åÌãÆ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the enmity of those close with friendship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59AF-D3EA-4C00-955B-3F50D6F1C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ÉCáÇÖãåßB áÄáÇå¾áF ØãÊCáÇÖãIãQ å´ãäÃáQ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cause my faith to reach the most perfect faith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2B70-DCA0-4A8C-BA3F-51B06C076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áTáäoáRáÇåÂB ãÅCácånáÛBB ÕãÑál ã¹Òâ»â® åÌãÆ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the disrespect of womb relatives with devotion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73F8-A007-4585-8B3D-CCA3D1142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áTáoå|âäËÂB áÌ×ãQáoåºáÛBB ãÉáÙåmãg åÌãÆ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the abandonment of relatives with help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C7F8-6F3C-47DF-A3F0-BF21AD76C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Uá»ãÇåÂB áe×ãdå|áW áÌÖãnBákâÇåÂB ãäSâc åÌãÆ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the attachment of flatterers with love set right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94EC-7D5A-480E-8022-AE87D8A69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Toåxã¯åÂB áÅáoá¾ áÌ×ãtãQáÚâÇåÂB ãäján åÌãÆ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the rejection of fellows with generous friendliness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86C6-27E7-489B-ABDD-A0419C37D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Karbala"/>
              </a:rPr>
              <a:t>ãUáËáÆáÛBB áTáÑáÚác áÌ×ãÇãÂCáä«ÂB ãµåÒág ãTánBáoáÆ åÌãÆ áÑ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the bitterness of the fear of wrongdoers with the sweetness of security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4461-492B-4EAC-A4D1-F318079E5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äÈ~âÏ~áäÃÂB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86DD-19F2-4D98-BA92-747FBA519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ØãËáÇáÃáª åÌáÆ ÔáÃá® BækáÖ ØãÂ åÄá¯å_B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appoint for me a hand against him who wrongs me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94AD-41B7-4FB9-95E0-A1876623D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ØãËáÇá{Cág åÌáÆ ÔáÃá® CæÊCátãÂ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a tongue against him who disputes with me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68AC-53CF-4AE7-B9D6-E7BEBF63D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ØãÊákáÊCá® åÌáÇãQ Bæoá·áª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and a victory over him who stubbornly resists me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D983-ED8A-4B0D-9725-BD01E4E1B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ØãÊákáÖCá¾ åÌáÆ ÔáÃá® Bæoå¿áÆ Ø~ãÂ åSáÎ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Give me guile against him who schemes against me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1A3D-FB23-4BAB-A66E-4556F2B3C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Ì×ã»á×åÂB áÄá£å¶áF ØãË×ã»áÖ åÄá¯å_B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make my certainty the most excellent certainty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1432-832B-4E58-B461-EFB26BF1B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ØãÊákáÏá§å¢B ãÌáÆ ÔáÃá® æTánåkâº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power over him who oppresses me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E77E-BC6B-4E9E-9DFD-3F7BD9034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ØãËáRá|áº åÌáÇãÂ CæRÖãmå¿áW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refutation of him who reviles me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ED7D-420A-45F5-95E0-DD362115E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ØãÊákáä®áÒáW åÌáäÇãÆ æUáÆáÚás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and safety from him who threatens me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C3F0-FA19-4489-B896-B020A3030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ØãÊájáäkás åÌáÆ ãUá®Cá§ãÂ ØãËå»ãä¶áÑ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Grant me success to obey him who points me straight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BDC8-6874-477C-A88D-8F23E0D51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ØãÊákáwånáF åÌáÆ ãUá¯áQCáXâÆ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and follow him who guides me right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4DDA-8908-4B2C-B515-4AA77E617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äÈ~âÏ~áäÃÂB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F3B1-7A5F-4912-972F-63CA5AEBF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eå|âäËÂCãQ ØãËáäxá² åÌáÆ á¡ãnCá®âF åÉáãÛ Ø~ãÊåjãäk~ás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point me straight to resist him who is dishonest toward me with good counsel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010D-0892-4449-9E77-BDADEF892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äoãRåÂCãQ ØãÊáoá`áÎ åÌáÆ áÕãqå_áF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repay him who separates from me with gentle devotion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46A4-07F7-45C7-933E-BF6B9377F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ÁåmáRåÂCãQ ØãËáÆáoác åÌáÆ áS×ã[âF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reward him who deprives me with free giving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4CF1-FF86-4138-B7F1-264AF402F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UáÃãä|ÂCãQ ØãËá¯á§áº åÌáÆ áOã¶Cá¾âF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recompense him who cuts me off with joining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01CE-C768-485D-92B2-F25E3EEE6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VCáä×ãäËÂB ãÌátåcáF ÔáÂãH ØãXáä×ãËãQ ãÐáXåÊB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and take my intention to the best of intentions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85EC-DDB5-4EB5-AF93-5B528EBA3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oå¾ãämÂB ãÌåtâc ÔáÂãH ØãËáQCáXå²B ãÌáÆ á¸ãÂCágâF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ppose him who slanders me with excellent mention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9BFA-B766-4184-B776-30620D7A9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áUáËátádåÂB áoâ¿åwáF åÉáF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give thanks for good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C0C6-9E02-4F21-A30D-EFCC1DED5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UáNãä×áätÂB ãÌá® áØã£å²âF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and shut my eyes to evil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4D5C-52BF-4E1B-AD28-D236954C3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äÈ~âÏ~áäÃÂB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31C8-970A-4549-AEDD-73F42BA7C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áÌ×ãdãÂCáä|ÂB ãUá×åÃãdãQ ØãËãäÃác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adorn me with the adornment of the righteous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9DCB-9746-4BB8-ADBD-C2E552623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Áåká¯åÂB ã¨åtáQ Øã¶ áÌ×ã»áäXâÇåÂB áUáËÖãp ØãËåtãRåÂáF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clothe me in the ornaments of the god fearing, through spreading justic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B9ED-D01F-43B1-9D66-61FF98BAD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¬å×á³åÂB ãÈå«á¾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restraining rage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06FA-EAB2-45E7-A4CF-F368EC07B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TáoãMEáäËÂB ãAEá·å¦ãH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quenching the flame of hate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00F5-ED43-4E7B-BFC9-D1B3AB266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Uáºåoâ·åÂB ãÄåÎáF ãäÈá¢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bringing together the people of separation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E74F-4540-4345-82B6-C98BEAEBF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Ìå×áRåÂB ãVBál ãbáÚå{ãH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correcting discord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4EBE-B186-4193-9D99-2799FCBFA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ÁCáÇå®áÛBB ãÌátåcáF ÔáÂãH ØãÃáÇá¯ãQ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and my works to the best of works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AECD-9F28-4CA2-A92D-0ACC410A8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Uá¶ãnCá¯åÂB ãAEáxå¶ãH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spreading about good behaviour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B985-497B-433E-8DE0-569D73CD8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UáRãMEá¯åÂB ãoåXás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covering faults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C330-F6BB-4B96-AC03-B0CCF737F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Uá¿Öãoá¯åÂB ãÌ×ãÂ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mildness of temper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665B-0BA6-4B5D-82D5-C6C868F5B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bCáËá`åÂB ã¤å·ág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lowering the wing (i.e. being gentle)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AF97-F198-420A-8E6F-6A7C23557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Táo×ãätÂB ãÌåtâc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beauty of conduct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38FB-1DEF-4C51-A125-33A0390CE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eÖãäoÂB ãÉÒâ¿âs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gravity of bearing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5477-82CB-4F32-8CB1-44FF642D8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Uá·áÂCáhâÇåÂB ãS×ã¦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agreeableness in comportment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D417-B1F0-4E87-9DD2-6D7FD0FD7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UáÃ×ã£á·åÂB ÔáÂãH ã¼åRáätÂB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precedence in reaching excellence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35C5-FB93-492F-A56C-24E1CB166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Äâä£á·áäXÂB ãnCá\ÖãH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preferring bounteousness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156F-7D6E-400C-A1F2-31A0390E4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o×~ã×å¯áäXÂB ã½åoáW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refraining from condemnation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004E-8A14-45EB-85B2-513A110FD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ØãXáä×ãÊ áÀã·å§âÃãQ åoãä¶áÑ áäÈ~âÏ~áäÃÂB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complete my intention through Your gentleness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B5EC-8825-40A6-90D4-143251EA0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ä¼ãdáXåtâÇåÂB ãoå×á² ÔáÃá® ãÁCá£å¶ãåßB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bestowing bounty on the undeserving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7B8A-055F-4658-9010-E89C5391E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áäqá® åÉãH áÑ ãä¼ádåÂCãQ ãÁåÒá»åÂB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speaking the truth, though it be painful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2EC3-8C32-4E4A-8E9B-82A9D8B60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Karbala"/>
              </a:rPr>
              <a:t>ØãÃå¯ã¶ áÑ ØãÂåÒáº åÌãÆ áoâ\á¾ åÉãH áÑ ãoå×áhåÂB ãÁáÚå»ãXåsB á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making little of the good in my words and deeds, though it be much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69BE-6EBC-4C6C-81A0-488DDC7DC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Karbala"/>
              </a:rPr>
              <a:t>ØãÃå¯ã¶ áÑ ØãÂåÒáº åÌãÆ áäÄáº åÉãH áÑ ãäoáäxÂB ãnCá\å¿ãXåsB áÑ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l-Arial"/>
                <a:ea typeface="MS Mincho"/>
              </a:rPr>
              <a:t>and making much of the evil in my words and deeds, though it be little!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EF93-6BEE-4372-91C7-1F116BAEB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100000"/>
              </a:lnSpc>
              <a:spcBef>
                <a:spcPts val="14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Karbala"/>
              </a:rPr>
              <a:t>ãUá®Cáä§ÂB ãÅBáÑákãQ Ø~ãÂ áÀãÂál åÄãÇå¾áFáÑ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Perfect this for me through lasting obedienc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4A6E-2522-42B5-B3E6-B3F9D0A38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Uá®CáÇá`åÂB ãÅÑâqâÂ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holding fast to the community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A0EE-7767-49F9-BFEE-00EC7BDD2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­ákãRåÂB ãÄåÎáF ã¤å¶án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rejecting the people of innovation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EEEF-57FE-49C0-A7B6-CA37848C8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­áoáXåhâÇåÂB ãÕåFáäoÂB ØãÃãÇå¯áXåtâÆ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those who act in accordance with original opinions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C6F0-26E5-43CF-846E-17EB6A49B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A039-8395-4499-A658-BE227C150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âVåoãRá¾ BálãH áäØáÃá® áÀãºåpãn á°ásåÑáF åÄá¯å_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ppoint for me Your widest provision in my old ag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BC29-C68D-4748-9278-17637C664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ØãË×ã»áÖ á½ákåËã® CáÇãQ åeãädá{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rectify my certainty through what is with You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1C44-649C-4DA7-9E64-AF19E25D5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âYåRã|áÊ BálãH áäØã¶ áÀãWáäÒâº ÓáÒåºáF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Your strongest strength when I am exhauste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F9DE-4A31-43FA-A7AD-25C197E9B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ãWájCáRã® åÌá® ãÄátá¿åÂCãQ ØãäËá×ãÃáXåRáW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try me not with laziness in worship of You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8B14-EBFB-4450-8FCC-F0A28B8D6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ãÃ×ãRás åÌá® ÔáÇá¯åÂB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blindness toward Your path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29AF-2EBB-4694-B662-DF44B8CEC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ãXáäRádáÆ ãµáÚãhãÂ ã¡âäoá¯áäXÂCãQ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undertaking what opposes love for You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ABE8-00C3-4C25-87B6-35F1686BD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åËá® á¹áäoá·áW åÌáÆ ãUá¯áÆCá`âÆ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joining with him who has separated himself from You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A2CA-0630-428A-A162-513459A62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å×áÂãH á°áÇáXå_B ãÌáÆ ãUáºánCá·âÆ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separating from him who has joined himself to You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E04E-9147-4F1C-A515-CAD9050F8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TánÑâoáä£ÂB ákåËã® áÀãQ âÁÒâ{áF Ø~ãË~åÃá¯å_B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make me leap to You in times of distress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35C4-25E3-4F4B-AAB6-6A2935478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Uá_CádåÂB ákåËã® áÀâÂáGåsáF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sk from You in needs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0D6D-7E94-4A5D-A153-0C2727097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UáËá¿åtáÇåÂB ákåËã® áÀå×áÂãH â­áäoá£áWáF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plead to You in misery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DC4A-31DA-42ED-B826-9591EE68B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Karbala"/>
              </a:rPr>
              <a:t>âVånãoâ§å¢B BálãH á½ãoå×á³ãQ ãUáÊCá¯ãXåsãÙCãQ Ø~ãäËãXå·áW áÙ áÑ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l-Arial"/>
                <a:ea typeface="MS Mincho"/>
              </a:rPr>
              <a:t>Tempt me not to seek help from other than You when I am distressed,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Akil Karim</dc:creator>
  <dc:description/>
  <dc:language>en-US</dc:language>
  <cp:lastModifiedBy>Admin</cp:lastModifiedBy>
  <dcterms:modified xsi:type="dcterms:W3CDTF">2013-10-12T15:57:16Z</dcterms:modified>
  <cp:revision>103</cp:revision>
  <dc:subject/>
  <dc:title>Du`a Makarim al-Akhlaq</dc:title>
</cp:coreProperties>
</file>