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17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23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49.xml.rels" ContentType="application/vnd.openxmlformats-package.relationships+xml"/>
  <Override PartName="/ppt/slides/_rels/slide195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156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3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3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208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210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158.xml" ContentType="application/vnd.openxmlformats-officedocument.presentationml.slide+xml"/>
  <Override PartName="/ppt/slides/slide207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59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6B3-CBB3-454D-9787-F77E5A34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1E7-FFAA-47A5-8B3B-F1F228D1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555-695C-48D8-A992-6628DE3A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0E7-D91E-4522-A92A-172D4DA2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D4B-9F2B-42DA-A9B4-88E0436F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983-E14B-4304-B9D4-F65AB542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EBF-6CEA-4DFF-BCA8-0D291A6C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90E-7A9B-495B-BC0C-5F444759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C70-7EB8-4F14-AF8C-59753723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2AD-9EA7-4A44-8D6D-1D193F1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D09-95DD-45FD-96E5-EFEC57C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52E-0123-442B-8A69-F862E8DC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Prepared by Tablígh Sub-Committee of ISIJ of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9C9-ECCD-45BE-BCCF-1AC327C60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50C4-940D-4932-83B0-7B471980D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287-EF13-4204-9CDB-343355EE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äËãÆ ákátá¶ CáÆ áÀãWánåkâ»ãQ åeãÃå|áXås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et right what is corrupt in me through Your power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65E-1054-4612-B77E-62CF5725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oá»áXå¶B BálãH á½ãoå×á² ãÁBáKâtãÂ ã­Òâ£âhå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o humble myself in asking from someone else when I am poo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702-FF10-4920-8B41-E2D7AB4AF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RãÎán BálãH áÀáÊÑâj åÌáÆ ÔáÂãH ã­âäoá£áäX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r to plead with someone less than You when I fe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1A9C-2F58-4332-B629-D7CFA14A7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áÀá¢Báoå®ãHáÑ áÀá¯åËáÆáÑ áÀáÊáÙåmãg áÀãÂámãQ áä¼ãdáXåsáGá¶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for then I would deserve Your abandonment, Your withholding, and Your turning away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C81A-B137-40BA-925A-088BE58C6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Ì×ãÇãcBáäoÂB áÈácånáF Eá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Most Merciful of the merciful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055-76C2-4B5C-B17F-37083646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Øã®Ñân Øã¶ âÉCá§å×áäxÂB Øã»åÃâÖ CáÆ åÄá¯å_B áäÈ~âÏ~áäÃÂB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ãkátádåÂB áÑ ØãäËá«áäXÂB áÑ ØãäËáÇáäXÂB áÌãÆ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make the wishing, the doubt, and the envy which Satan throws into my hear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18C7-9A40-4303-B68E-8CC6C1C14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á«á¯ãÂ Bæoå¾ãl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remembrance of Your might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FC7-B0BE-4A21-B231-3E9871E5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Wánåkâº Øã¶ Bæoâä¿á·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reflection upon Your pow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FD9A-3B03-4835-A490-6FCE37737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ãäÑâká® ÔáÃá® Bæo×ãQåk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 devising against Your enem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C26D-137D-4896-9DB7-0E778FCA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ÊCátãÂ ÔáÃá® Óáoå_áF E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everything he causes to pass over my tongu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43A-5DBC-42A2-87ED-790D3DC0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¡åoã® ãÈåXáw åÑáF èoå`áÎ åÑáF èyådâ¶ ãUá«å·áÂ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Äã¦CáQ ãTájCáÏáw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- the indecent or ugly word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he maligning of good repute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he false witnes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C32-5D9A-46B5-BF89-EE01143AE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FA33-1279-415C-AAD7-6D9F471A8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oã¢Các ãäSás åÑáF èSãMEá² èÌãÆåKâÆ ãPCá×ãXå²B ãÑá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speaking ill of an absent man of fai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r the reviling of one presen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10F3-C8FB-4FF1-9F6A-90F14F35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áÂ ãkÇádåÂCãQ Cæ»å§âÊ áÀãÂál áÐáRåwáF E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ll things similar - a speech in praise of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315-EEA1-4A2B-B88E-35CD2C7C6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×áÃá® ãAEáËáä\ÂB Øã¶ CæºBáoå²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pursual of eulogiz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BEBB-8FA5-4240-9E30-400AE372B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ãk×ã`åÇáW Øã¶ CæQCáÎál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 excursion in magnify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E9C1-9FAD-4750-A189-397A3367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å¯ãËãÂ Bæoå¿â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thanksgiving for Your fav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BE3B-EC3B-4506-BF36-C23C200D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ÊCátåcãIãQ Cæ¶BáoãXå®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 acknowledgement of Your benefice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6D8E-3730-42BA-812E-FF3AC12A1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ËáËãÇãÂ æAEá|åc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n enumeration of Your kindness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F2B0-F142-4193-805C-34AEA798E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70BA-BF51-401F-85A4-7C5C99E34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äËá® ã°å¶áäkÃãÂ ç¼×ã§âÆ áYåÊFáÑ áäÌáÇáÃåªâ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wronged while You can repel from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EDB8-F0A6-47D0-9D78-2B907F82B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ØãäËãÆ ã¤åRá»åÂB ÔáÃá® ânãjCá»åÂB áYåÊáF áÑ áäÌáÇãÃåªáF áÙ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do wrong while You are powerful over holding me back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B73-D66B-43D0-91C9-5D13A1ED5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Q âÅCáÇãXåÎãÙB ØãËâÃá³åxáÖ CáÆ ØãËã·å¾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are me the concerns which distract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F14A-00FD-42DD-B58E-F7B43966A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XáÖBákãÎ áÀåXáËá¿åÆáF åkáºáÑ áäÌáäÃã¢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misguided while You are able to guide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4DB-F551-46CC-8854-1D63D8A96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¯åsâÑ á½ãkåËã® åÌãÆáÑ áäÉáoã»áXå¶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poor while with You is my ple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D388-53DC-48CF-872D-92474C90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Õãkå_âÑ á½ãkåËã® åÌãÆáÑ áäÌá×á³å¦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insolent while from You comes my wealth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0D8-C206-41F9-B60F-9B69D3ED3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ká¶áÑ áÀãWáoã·å³áÆ ÔáÂãH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I come to Your forgiv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37F-36D7-47E5-8DB4-79FBCB35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ká|áº á½ãÒå·á® ÔáÂ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 go straight to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1BB-F4EE-4E5C-AFFB-F09304DF9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»áXåwB á½ãpâÑCá`áW ÔáÂ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 yearn for Your forbeara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301B-7794-4328-9371-1811499E8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»ã[áÑ áÀãÃå£á·ãQ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I trust in Your bou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D733-BA15-4A9D-B4B4-1BE7C8E78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áWáoã·å³áÆ ØãÂ âSã_ÒâÖ CáÆ ÕãkåËã® áuå×á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ut there is nothing with me to make me warrant Your forgiv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5BA3-CD4B-4BDA-984B-545C9162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áÒå·á® ãÐãQ âä¼ãdáXåsáF EáÆ ØãÃáÇá® Øã¶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nothing in my works to make me merit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2A4-D95D-4497-8B56-2677D58C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áÀâÃå£á¶ áÙãH Øãtå·áÊ ÔáÃá® âYåÇá¿ác åÉáF ákå¯áQ ØãÂ CáÆ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nothing on my behalf after I judge my soul but Your bou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F91-2CC0-4D3C-B143-99AD56E7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âÐåËá® Bæká² ØãËâÂáGåtáW CáÇãQ ØãËåÃãÇå¯áXås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employ me in that about which You will ask me tomorr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24E-C7B8-4766-AA3D-03BE8BC2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|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o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30D8-1AEC-4326-8C6E-FF70C486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äØáÃá® åÄáä£á·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bestow Your bounty upon m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814D-22FF-4BD2-ACA5-B76F0EAB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ÓákâÏåÂCãQ ØãËå»ã§åÊáFáÑ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make my speech be guida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B4A2-ECAB-44EB-805C-52F774631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ÓáÒå»áäXÂB ØãËåÇãÏåÂ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spire me with reverential fe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0DB9-ABE9-4D9C-BA06-C4691330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¾åpáF áØãÎ ØãXáäÃãÂ ØãËå»ãä¶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success in that which is most p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D62-F095-4223-AD89-947F8C298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¢ånáF áÒâÎ CáÇãQ ØãËåÃãÇå¯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employ me in what is most pleasing to You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A3D8-6438-406E-AEB7-ED2DAB23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Ãå\âÇåÂB áUá»Öãoáä§ÂB áØãQ åÀâÃås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let me tread the most exemplary path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63F4-16CC-482A-A728-1FA35423D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×åcáFáÑ âVÒâÆáF áÀãXáäÃãÆ ÔáÃá® ØãËåÃ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live and die in Your creed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782C-DC50-440A-A108-6CC75818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927-0CF7-47ED-9C01-8400CEBEC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|ãXåºãÙCãQ ØãËå¯ãäX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enjoy moder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D2C8-80D6-4A71-AE49-6DB2A684A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ÐáÂ ØãËáXå»áÃág CáÇ×ã¶ ØãÆCáäÖáF å±ãoå·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let me pass my days in that for which You have created m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333-BE9E-43A0-ADA1-AF8EAC19D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BákáätÂB ãÄåÎáF åÌãÆ ØãËåÃ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me into one of the people of right behavi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9416-F403-4AE1-B540-4B20CCE7C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wáäoÂB ãUáäÂãjáF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proofs of right conduc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ED8-8818-4291-8FB0-A8B84FE42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Rã¯åÂB ØãdãÂCá{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servants of righteous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37D8-0146-42BB-AF26-A3C285F8D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¯áÇåÂB ápåÒá¶ ØãËåºâpånB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me with triumph at the place of Return (to You)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DE8-A741-4DDB-85AB-FCF1EEF2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{åoãÇåÂB áUáÆáÚ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safety from the Ambush (i.e. Hell)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6B71-834D-45DE-8C2F-D49DD683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|ãäÃáhâÖ CáÆ Øãtå·áÊ åÌãÆ áÀãtå·áËãÂ åmâg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take to Yourself from my soul what will purify i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5044-A52F-43AC-8A96-A72BF792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dãÃå|âÖ CáÆ Øãtå·áÊ åÌãÆ Øãtå·áËãÂ ã¼åQ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leave for my soul that of my soul that will set it righ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D2BF-7729-4530-A600-2EFE91936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Çã|å¯áW åÑáF çUá¿ãÂCáÎ Øãtå·áÊ áäÉãI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 my soul will perish unless You preserve i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A5EB-426C-4469-BBB5-056DD9D3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Êãqác åÉãH ØãWáäkâ® áYåÊáF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You are my stores when I sorrow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031D-86A6-4D69-B29D-A13770EE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Æãoâc åÉãH Øã¯á`áXåËâ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You are my recourse when I am depriv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2093-935F-4FC3-9517-1CC5DCC4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oá§áRÂCãQ ØãäËãXå·áW áÙ áÑ áÀãºåpãn Øã¶ áäØáÃá® å°ãsåÑáF áÑ ØãËãËå²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ee me from need, expand Your provision toward me, and tempt me not with ingratitud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6AD-46FC-43D7-B033-AB74427A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[ãoá¾ åÉãH ØãXá[Cá³ãXåsB áÀãQ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om You I seek aid when troubl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2F84-7793-4A26-8A73-886C4E10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¸áÃág áVCá¶ CáäÇãÆ á½ákåËã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with You is a substitute for everything gone b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6EA-34F5-4C06-80EA-610C97B3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báÚá{ ákátá¶ CáÇã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correction for everything corrupt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7A1-0CB0-4C88-AE6F-6322961D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o×ã×å³áW áVåoá¿åÊáF EáÇ×ã¶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 change from everything You disappr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8C06-70D2-42FE-9D45-D0E6FAA7E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×ã¶Cá¯åÂCãQ ãAáÚáRåÂB áÄåRáº áäØáÃá® åÌâËåÆC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o show kindness to me with well-being before affli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272-7E43-42E6-9363-84618CCB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kã`åÂCãQ ãSáÃáä§ÂB áÄåRá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wealth before ask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92D-E0D0-45B5-93D0-938DE43C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wáäoÂCãQ ãÁáÚáä£ÂB áÄåRáº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ight conduct before misguidanc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15C-73D9-4D83-B6D9-CDA417BA0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Rã¯åÂB ãTáäoá¯áÆ áUáÊâKáÆ ØãËã·å¾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uffice me against the burden of shame toward the servant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9A69-62D9-4ECD-9E58-23483A41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¯áÇåÂB ãÅåÒáÖ áÌåÆáF ØãÂ åSá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security on the Day of Retur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0C9F-873B-4640-8C84-13B3599AF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jCáwånãåßB áÌåtâc ØãËåd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me excellent right guidanc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91EA-A84B-43D6-8120-2586BF4CE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åRã¿åÂCãQ ØãäËá×ãÃáXåRáW áÙ áÑ ØãÊáäqã®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Exalt me and afflict me not with prid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5B33-3069-4C2D-9CD3-4AFABD99F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~áäÇádâÆ ÔáÃá® ãäÄ~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EAA-41EC-4067-ACD1-416771BAC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·å§âÃãQ ØãäËá® åFánåj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epel from me through Your gentl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F338-3F68-4739-8B99-A61EA715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å¯ãËãQ ØãÊâmå²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eed me through Your fav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F81A-3F0C-4A2E-AE0D-68C8182C8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Æáoá¿ãQ ØãËådãÃå{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et me right through Your generos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8A8E-B747-4B0F-AAA1-B6BB8B058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¯åËâ|ãQ ØãÊãÑBáj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eal me through Your benefa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715F-871F-4090-BEBE-DFE2529B4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Bánál Øã¶ ØãËáäÃã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hade me in Your shelt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9C4-FD53-4CEA-8E10-5B8C2754A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Cá¢ãn ØãËåÃãäÃá_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wrap me in Your good pleas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CB5-7AAA-4F70-B8EA-080F12E95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CáÎBák~åÎáãÛ ânÒ~âÆâåÛB áäØáÃá® åYáÃá¿áXåwB BálãH ØãËå»ãä¶áÑ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give me success to reach the most guided of affairs when affairs confuse me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B051-52D2-4398-A1B0-EF12BAD6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ÎCá¾åpáãÛ âÁCáÇå®áÛBB ãY~áÏáQCáxáW Bál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purest of works when works seem simil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4C7-5124-4986-A901-D20B2F56F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ÎCá¢ånáãÛ âÄáÃãÇåÂB ãYá£áºCáËáW Bál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st pleasing to You of creeds when creeds conflic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CD9-8EF9-4BEC-AEBB-B1359926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å`â¯åÂCãQ ØãWájCáRã® åkãtå·âW áÙ áÑ áÀáÂ ØãÊåkãäRá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me worship You and corrupt not my worship with self-admiration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D45-86ED-426D-A002-7EC1B98F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4A46-6CAE-4376-806C-FB9FE83B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Cá·ã¿åÂCãQ ØãËå_ãäÒ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crown me with sufficienc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E601-BE1D-406E-974A-3BA460CFA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áÙáÒåÂB áÌåtâc ØãËåÇâ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place in me excellent guardianship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F83C-4BB4-44E6-95F8-A93733D58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BákãÏåÂB á¹åkã{ ØãÂ åSá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guide correctl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8BE-43D3-46E3-8C55-66477FF8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¯áätÂCãQ ØãäËãXå·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empt me not with ple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9AA-B589-495C-B3E0-625FBF16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®áäkÂB áÌåtâc ØãËåd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excellent eas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56F-E046-40A2-97ED-AB7A1A9FA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á¾ Bæäká¾ Øãxå×á® åÄá¯å`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not my life toil and troubl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0FA-7D5C-4704-AA37-60579015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ján áäØáÃá® ØãMEá®âj áäjâo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fuse not my supplication in reje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F93-5F82-4C13-91BF-D45E02226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ã¢ áÀáÂ âÄá¯å_áF áÙ ØãäÊãI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 I make none rival to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0508-7E9D-4230-AD83-59E64E0B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ãÊ áÀá¯áÆ Òâ®åj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I supplicate none with You as equal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9A9-8727-4176-9313-69A4DC96B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ÌáÇåÂCãQ âÐå»ádåÇáW áÙ áÑ áoå×áhåÂB áÕãkáÖ ÔáÃá® ãrCáäËÃãÂ ã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good flow out from my hands upon the people and efface it not by my making them feel obliged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DAC9-B681-467B-973B-C82D9094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F382-1F33-4E25-808F-8C7E00490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µáoáätÂB áÌãÆ ØãËå¯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old me back from prodigal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903-57AF-4480-9AF7-04B49075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¸áÃáäXÂB áÌãÆ Øãºåpãn åÌãä|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tify my provision against rui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52E7-D2CA-4C3C-A19E-3AED472D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×ã¶ ãUá¾áoáRåÂCãQ ØãXá¿áÃáÆ åoãä¶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crease my possessions through blessing the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581-8403-4C74-9117-DE809DE54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âÐåËãÆ â¼ã·åÊâF EáÇ×ã¶ ãäoãRåÃãÂ ãUáÖBákãÏåÂB áÄ×ãRás ØãQ åSã{áF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set me upon the path of guidance through piety in what I spend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AF49-4BD6-4AD6-9A0B-09BBDD00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0AF-7024-4EB5-91E6-4E5CC521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PCátãXå¾ãÙB áUáÊÑâKáÆ ØãËã·å¾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pare me the burden of earn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F3CC-7FAC-4B2C-8299-0EA7C45A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PCátãXåcB ãoå×á² åÌãÆ ØãËåºâpån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for me without reckon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BBD-A15E-4144-89ED-4310450D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áÃáä§ÂCãQ áÀãWájCáRã® åÌá® áÄã³áXåwáF áÚ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st I be distracted from Your worship through seek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9E7F-0F34-4007-8ACE-5D893442A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átå¿áÇåÂB ãVCá¯ãRáW áoå{ãH áÄãÇáXåc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arry the load of earning’s ill result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A828-431D-4B76-92E3-27971FC17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¹áÚågáÛBB áØãÂCá¯áÆ ØãÂ åSáÎ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he highest moral trait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6AE2-C5B9-4097-A081-07E42108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SâÃå¦áF EáÆ áÀãWánåkâ»ãQ ØãËåRãÃå¦áGá¶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bestow upon me what I seek through Your pow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1AF-DD65-4025-8951-0CA0D160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SáÎånáF EáäÇãÆ áÀãWáäqã¯ãQ ØãÊåoã_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me sanctuary from what I fear through Your migh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F696-5146-4F4D-A3E9-85A0D116B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E89-AA29-40BD-BCC1-F78B71859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tá×åÂCãQ ØãÏå_áÑ åÌâ{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ave my face through eas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5BF6-734C-44E0-B542-4385AC62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XåºãåßCãQ ØãÎCá_ åÁãmáXåR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demean not my dignity through need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AC8-A65A-4F7A-9185-8DEEE761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ºåpãn áÄåÎáF á¹ãpåoáXåsáG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st I seek provision from those whom You have provid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6F8-F3D0-4F44-BDDA-89D3C5F3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»åÃág ánBáoãw áØã§å¯áXås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sk for bestowal from the worst of Your creatur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C2F3-E7FC-442E-839C-AA7DB1592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ÊCá§å®áF åÌáÆ ãkåÇádãQ áÌãXáXå¶áG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n I would be tried by praising him who gave to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A9A-0545-452B-A6EE-C1B7EB19E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Ëá¯áËáÆ åÌáÆ ãäÅámãQ ÔáÃáXåQâ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fflicted with blaming him who held back from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662B-1FAC-4B25-A637-B1E18C4D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°åËáÇåÂBáÑ ãAEá§å®ãåßB âäØãÂáÑ åÈãÏãÊÑâj åÌã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while You - not they - are patron of giving and holding back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4C48-1739-4753-8141-58B5D7973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C59-45A6-473E-B034-6A2F2D58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åhá·åÂB áÌãÆ ØãËåÇã|å®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preserve me from vainglor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5EB-0E4F-4A77-8378-3A863B8B5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F0C-89AA-481D-B66B-465AA738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TájCáRã® Øã¶ æUáädã{ ØãËåºâpån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me with soundness in worship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99E-7552-4D87-AAA8-ED128597F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TájCáÎáp Øã¶ Cæ²Báoá¶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detachment in renunci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C047-2B7B-4B7E-8811-A9309B1F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ÁCáÇå¯ãXåsB Øã¶ CæÇåÃã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knowledge put into a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009F-214F-4F84-9A56-E792E46D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ÁCáÇå_ãH Øã¶ Cæ®án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bstinence in measur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825E-8145-4DF4-AAA6-6BE63349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_áF á½ãÒå·á¯ãQ åÈãXåg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eal my term with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639A-0C68-4C9A-8D7A-A29240401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ÆáF áÀãXáÇåcán ãAEá_án Øã¶ å¼ãä»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verify my expectation in hoping for Your merc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B14D-8DC2-4834-A4AA-C2B6029E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âRâs á½Cá¢ãn ã±ÒâÃâQ ÔáÂãH åÄãäÏ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mooth my paths to reach Your good pleas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2E5-F259-42B2-A9B3-7EE489AFF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Çá® ØãÂBáÒåcáF ã°×ãÇá_ Øã¶ åÌãät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y works good in all my stat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2765-BEAD-4445-94C0-145A245EF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587B-C46A-4252-9843-900F849B4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A103-2777-4C2F-8D8F-E7E1B7CA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Ãå·á³åÂB ãVCáºåÑáF Øã¶ á½ãoå¾ãmãÂ ØãËåÏãäRáÊ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cite me to remember You in times of heedless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01C7-BA72-478D-9817-188C0EEF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ÃåÏâÇåÂB ãÅCáäÖáF Øã¶ áÀãXá®Cá§ãQ ØãËåÃãÇå¯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employ me in Your obedience in days of disrega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F474-4CA0-4AA6-8F4E-146CAA30B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æUáÃåÏás æÚ×ãRás áÀãXáäRádáÆ ÔáÂãH ØãÂ åaáÏåÊ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pen a smooth road for me to Your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19F-BAB5-4AC5-A859-BE81D491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áoãgåÝB áÑ Cá×åÊâäkÂB áoå×ág CáÏãQ ØãÂ åÄãÇå¾á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omplete for me thereby the good of this world and the nex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D323-B09A-4CC2-8565-24E8DD3E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Ñ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4F7F-8251-4912-AB4E-C8D95BA1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âÐáÃåRáº áÀã»åÃág åÌãÆ èkácáF ÔáÃá® áYå×áäÃá{ CáÆ ãÄá£å¶áGá¾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best You have blessed any of Your creatures before hi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C1AA-DE96-4C78-9F50-6723025C3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Íákå¯áQ èkácáF ÔáÃá® èäÄá|â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will bless any of them after hi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4B16-4FAB-47E9-BFC7-3D852D7FB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æUáËátác ãTáoãgåÝB Øã¶ áÑ æUáËátác Cá×åÊâäkÂB Øã¶ CáËãWD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</a:t>
            </a: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to us in this World good, and in the next world goo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C3D-ED53-4D91-95B9-C7FCFC124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äËÂB áPBámá® áÀãXáÇåcáoãQ ØãËãº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tect me through Your mercy</a:t>
            </a: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 </a:t>
            </a: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om the chastisement of the Fire! </a:t>
            </a: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(2:201)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7CD5-511A-4E53-A17F-37501CEA7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C55-AC81-45E4-99C7-1DCF7E25D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tå·áÊ ákåËã® ØãËáXå§á§ác áäÙãH æUá_ánáj ãrCáäËÂB Øã¶ ØãËå¯á¶åo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áÃå\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aise me not a single degree before the people without lowering me its like in myself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CD56-1C49-455F-8D34-5E8BAFEA0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ã¦CáQ æUáäÂãl ØãÂ áYå[ákåcáF áäÙãH DæoãÎCáª Bæäqã® ØãÂ åZãkådâ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Îãnáká»ãQ Øãtå·áÊ ákåËã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bring about no outward exaltation for me without an inward abasement in myself to the same measur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86D0-BDA1-4051-A40B-7BCD9F0C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D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Household of Muhamma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0B4-5134-4E6A-BAE6-C05F129A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Q âÁãkåRáXåsáF áÙ èeãÂCá{ ÓækâÏãQ ØãËå¯ãäX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enjoy a sound guidance which I seek not to repla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AB19-2A76-46D2-B887-25220290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CáÏåËá® â´ÖãpáF áÙ èä¼ác ãUá»Öãoá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 path of truth from which I swerve no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63F3-A989-4311-B285-1C7E6FC68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×ã¶ âäÀâwáF áÙ èkåwân ãUáä×ãÊ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n intention of right conduct in which I have no doubt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F75-5C4D-4AC0-9412-0032E119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áÀãXá®Cá¦ Øã¶ æUáÂåmãQ ÕãoåÇâ® áÉCá¾ CáÆ ØãÊåoãäÇá®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live as long as my life is a free gift in obey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7BC9-5F8A-4164-A5C5-415F40D52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áÀå×áÂãH ØãËå£ãRåºCá¶ ãÉCá§å×áäxÃãÂ Cæ¯áWåoáÆ ÕãoåÇâ® áÉCá¾ BálãIá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ut if my life should become a pasture for Satan, seize me to Yoursel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FB37-8CA1-49D4-A8B7-AFA101B8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85FA-DA65-406E-8238-07CF3ACFF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ØáÂãH áÀâXå»áÆ á¼ãRåtáÖ åÉáF áÄåRáº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fore Your hatred overtakes m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5384-AE10-4206-B501-192C0884D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ØáÃá® áÀâRá£á² áÈã¿ådáXåtáÖ åÑáF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r Your wrath against me becomes firm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6904-1043-4B16-AF54-B90B28034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CáÏáXådáÃå{áF áäÙãH ØãäËãÆ âPCá¯âW æUáÃå|ág å­ákáW áÙ áäÈ~âÏ~áäÃÂB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deposit in me no quality for which I will be faulted, unless You set it righ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B9EF-F528-4AA1-859B-E06F3455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áXåËáätác áäÙãH EáÏãQ âSáäÊáJâF æUáRãMEá® áÙ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no flaw for which I will be blamed, unless You make it beautiful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2D9B-68DD-455F-9B79-C538D52B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CáÏáXåÇáÇåWF áäÙãH æUá|ãºCáÊ áäØã¶ æUáÆÑâoå¾âF áÙ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no deficient noble trait, unless You complete i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CE0A-9409-4746-A380-7D027A90F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D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Household of Muhamma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7C42-39A1-4B01-9BE0-51B15B47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UáäRádáÇåÂB ãÉCáËáäxÂB ãÄåÎáF ãUá£å³ãQ åÌãÆ ØãËåÂãkåQ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place for me the animosity of the people of hatred with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0C4-4AD2-4549-9BD9-26B565F7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äjáÒáÇåÂB ãØå³áRåÂB ãÄåÎáF ãkátác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envy of the people of insolence with affec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86EC-B84A-4F8A-A71A-63BB6E39C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Uá»ãä\ÂB ãbáÚáä|ÂB ãÄåÎáF ãUáäËãª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suspicion of the people of righteousness with trus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EB9-F3AE-41A7-800E-FF0F15A8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UáÖáÙáÒåÂB áÌå×áÊåjáÛBB ãTáÑBáká®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enmity of those close with friendship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E6E-FE28-4B7A-9B9F-CF37A7B4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ÉCáÇÖãåßB áÄáÇå¾áF ØãÊCáÇÖãIãQ å´ãäÃáQ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ause my faith to reach the most perfect fait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CD7-8E0E-4F0E-B5E0-450D6AC44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äoáRáÇåÂB ãÅCácånáÛBB ÕãÑál ã¹Òâ»â®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disrespect of womb relatives with devo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A73-A54D-48BD-8B61-1228487D4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oå|âäËÂB áÌ×ãQáoåºáÛBB ãÉáÙåmãg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abandonment of relatives with help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AE02-F65A-421E-ABE6-A72B59EC4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»ãÇåÂB áe×ãdå|áW áÌÖãnBákâÇåÂB ãäSâc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attachment of flatterers with love set righ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A8E3-8952-421E-9AFA-C1B65E9E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oåxã¯åÂB áÅáoá¾ áÌ×ãtãQáÚâÇåÂB ãäján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rejection of fellows with generous friendl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01D4-4F21-4BDE-B052-804F5914D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ãUáËáÆáÛBB áTáÑáÚác áÌ×ãÇãÂCáä«ÂB ãµåÒág ãTánBáoáÆ åÌãÆ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bitterness of the fear of wrongdoers with the sweetness of securit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6A5-2362-4196-9C5B-76DBECD1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8236-6318-4976-A65C-DED2E552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ÇáÃáª åÌáÆ ÔáÃá® BækáÖ ØãÂ åÄá¯å_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ppoint for me a hand against him who wrong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EE15-13AC-4019-8158-D82DFA73F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Çá{Cág åÌáÆ ÔáÃá® CæÊCátã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 tongue against him who disputes with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19D-1354-4F30-8305-72A20C744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ÊCá® åÌáÇãQ Bæoá·áª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a victory over him who stubbornly resists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614A-FF33-4512-9197-91898FAC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ÖCá¾ åÌáÆ ÔáÃá® Bæoå¿áÆ Ø~ãÂ åSáÎ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me guile against him who schemes against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BBAE-C092-4871-A80B-C6133658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Ì×ã»á×åÂB áÄá£å¶áF ØãË×ã»áÖ åÄá¯å_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ake my certainty the most excellent certainty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0232-E067-4E5B-A3C9-CE71474B9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Ïá§å¢B ãÌáÆ ÔáÃá® æTánåkâ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ower over him who oppresse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2D05-0005-42DB-B5BB-900B8933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Rá|áº åÌáÇãÂ CæRÖãmå¿á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futation of him who revile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271-4C44-464C-9CA5-DF2EDCDD6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ä®áÒáW åÌáäÇãÆ æUáÆáÚá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afety from him who threatens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15D1-ADD5-43B5-819B-04ACCCDB2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jáäkás åÌáÆ ãUá®Cá§ãÂ ØãËå»ãä¶áÑ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success to obey him who points me straigh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384-205F-482A-ACB6-8D2EDCA6D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wånáF åÌáÆ ãUá¯áQCáXâÆ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follow him who guides me righ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5E1A-E5F5-4755-861C-C2FEB9EF3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BF3D-A171-44B8-82E0-B5BA8DEB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eå|âäËÂCãQ ØãËáäxá² åÌáÆ á¡ãnCá®âF åÉáãÛ Ø~ãÊåjãäk~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oint me straight to resist him who is dishonest toward me with good counsel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460-B800-44FA-970F-0BA53575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oãRåÂCãQ ØãÊáoá`áÎ åÌáÆ áÕãqå_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pay him who separates from me with gentle devo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0432-9C5E-48D7-A984-D5E15698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ÁåmáRåÂCãQ ØãËáÆáoác åÌáÆ áS×ã[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ward him who deprives me with free giv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3C4-3D0A-4EFF-95EB-63B7A880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Ããä|ÂCãQ ØãËá¯á§áº åÌáÆ áOã¶Cá¾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compense him who cuts me off with join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A83C-57F1-4D5F-8DB0-C312D753A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VCáä×ãäËÂB ãÌátåcáF ÔáÂãH ØãXáä×ãËãQ ãÐáXåÊ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take my intention to the best of intention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7BB-FD57-42C8-981F-E3B97DF71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oå¾ãämÂB ãÌåtâc ÔáÂãH ØãËáQCáXå²B ãÌáÆ á¸ãÂCágâ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ppose him who slanders me with excellent men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C56-A9A4-4B5D-82BF-9082EA95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UáËátádåÂB áoâ¿åwáF åÉ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thanks for goo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3949-B537-443B-B042-64FD8BD72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Nãä×áätÂB ãÌá® áØã£å²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hut my eyes to evi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6EBD-2400-4382-A85F-525195FD4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9B6-FFF6-4CE8-AE77-8F2911477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Ì×ãdãÂCáä|ÂB ãUá×åÃãdãQ ØãËãäÃác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dorn me with the adornment of the righteou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E065-3F9B-49AD-91C2-BD3AD7C22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Áåká¯åÂB ã¨åtáQ Øã¶ áÌ×ã»áäXâÇåÂB áUáËÖãp ØãËåtãRåÂ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lothe me in the ornaments of the god fearing, through spreading justi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EAD8-AC45-4CE7-ABD1-E02E4E4B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¬å×á³åÂB ãÈå«á¾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straining rag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EE28-841E-4780-AAC0-ED072C32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oãMEáäËÂB ãAEá·å¦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quenching the flame of hat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5F7-D966-4BC0-A4A6-66B2FE0A5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ºåoâ·åÂB ãÄåÎáF ãäÈá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ringing together the people of separa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721-E30E-4122-B8FF-C1C62258F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Ìå×áRåÂB ãVBál ãbáÚå{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orrecting discor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219C-F768-48B6-ACF0-5CFCBFA07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ÁCáÇå®áÛBB ãÌátåcáF ÔáÂãH ØãÃáÇá¯ãQ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my works to the best of works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B794-B94B-48EC-B9B7-C4CD339FD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¶ãnCá¯åÂB ãAEáxå¶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reading about good behaviou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DCA1-6A4F-4639-8A94-F651759F5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RãMEá¯åÂB ãoåXá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overing fault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7CE6-B5D8-478A-B502-A345D979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¿Öãoá¯åÂB ãÌ×ã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ildness of tempe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6D73-FB7A-462A-BA53-5054DB9AF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bCáËá`åÂB ã¤å·ág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lowering the wing (i.e. being gentle)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166-FBEB-48A5-B0BC-087030D9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o×ãätÂB ãÌåtâc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auty of conduc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A99C-DB6E-4707-A48A-69B9242F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eÖãäoÂB ãÉÒâ¿â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ravity of bear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D62-A0A9-42BE-AB3C-11730F960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·áÂCáhâÇåÂB ãS×ã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greeableness in comportmen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FCA8-251E-48F2-B1DF-3C01EFBB4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Ã×ã£á·åÂB ÔáÂãH ã¼åRáätÂB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recedence in reaching excellenc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38B0-74D8-45B1-A46C-F5CA615A3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âä£á·áäXÂB ãnCá\Ö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referring bounteousnes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FA2-C241-4CCE-930B-8373FEB0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×~ã×å¯áäXÂB ã½åoá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fraining from condemna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B726-56BC-4B99-8D21-67406F3CE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Xáä×ãÊ áÀã·å§âÃãQ åoãä¶áÑ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complete my intention through Your gentlenes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B8EC-0160-4A8C-ABC7-FED3D2919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¼ãdáXåtâÇåÂB ãoå×á² ÔáÃá® ãÁCá£å¶ãåß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stowing bounty on the undeserv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1BC-0AAB-4E8F-8AF6-AA2C0612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qá® åÉãH áÑ ãä¼ádåÂCãQ ãÁåÒá»åÂ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eaking the truth, though it be painfu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D6F0-7E78-46E1-8AD5-DCE2CA534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arbala"/>
              </a:rPr>
              <a:t>ØãÃå¯ã¶ áÑ ØãÂåÒáº åÌãÆ áoâ\á¾ åÉãH áÑ ãoå×áhåÂB ãÁáÚå»ãXåsB á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aking little of the good in my words and deeds, though it be muc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3F5-248A-49DD-86E3-6AFA9F38F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ØãÃå¯ã¶ áÑ ØãÂåÒáº åÌãÆ áäÄáº åÉãH áÑ ãäoáäxÂB ãnCá\å¿ãXåsB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making much of the evil in my words and deeds, though it be little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F49-B22C-4945-94D1-9F6079F7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Karbala"/>
              </a:rPr>
              <a:t>ãUá®Cáä§ÂB ãÅBáÑákãQ Ø~ãÂ áÀãÂál åÄãÇå¾áFáÑ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Perfect this for me through lasting obedie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924F-057D-4490-ADBA-B69EA29F0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®CáÇá`åÂB ãÅÑâqâ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olding fast to the commun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357-55AA-43F6-B663-57432A558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­ákãRåÂB ãÄåÎáF ã¤å¶án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jecting the people of innov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A73-FF2C-4489-B6E0-08F0E488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­áoáXåhâÇåÂB ãÕåFáäoÂB ØãÃãÇå¯áXåtâ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ose who act in accordance with original opinion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1682-DC7E-49C1-B2C5-AD845585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01FB-FE81-4D9D-98D6-39A5F4424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oãRá¾ BálãH áäØáÃá® áÀãºåpãn á°ásåÑáF åÄ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ppoint for me Your widest provision in my old ag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14E-64DC-4E53-B56B-0AC0C4620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×ã»áÖ á½ákåËã® CáÇãQ åeãädá{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ctify my certainty through what is with You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FFF-06AD-4812-8B17-6AF28889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Rã|áÊ BálãH áäØã¶ áÀãWáäÒâº ÓáÒåº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strongest strength when I am exhaust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392-79CD-4AF2-98AB-8E036464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WájCáRã® åÌá® ãÄátá¿åÂCãQ ØãäËá×ãÃáXåR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ry me not with laziness in worship of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0C4-3312-4334-A248-EB940AB1A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Ã×ãRás åÌá® ÔáÇá¯åÂB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lindness toward Your path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250B-7F6F-42DF-AD3B-3D007763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äRádáÆ ãµáÚãhãÂ ã¡âäoá¯áäX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undertaking what opposes love for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C6A-AD7B-4817-ABE8-8E7346996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Ëá® á¹áäoá·áW åÌáÆ ãUá¯áÆCá`âÆ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joining with him who has separated himself from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95D-AAD4-458A-B99B-A5C7647EB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×áÂãH á°áÇáXå_B ãÌáÆ ãUáºánCá·âÆ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separating from him who has joined himself to You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6BF2-D0A2-4B6D-B45D-EB3785CC1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ánÑâoáä£ÂB ákåËã® áÀãQ âÁÒâ{áF Ø~ãË~åÃá¯å_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make me leap to You in times of distr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ADBD-A171-4AF7-8F15-3AE44742F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_CádåÂB ákåËã® áÀâÂáGås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sk from You in need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69C7-C36D-4D17-AE49-092102394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Ëá¿åtáÇåÂB ákåËã® áÀå×áÂãH â­áäoá£áW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lead to You in miser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4885-A42B-4EFF-A999-0F5C729C4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âVånãoâ§å¢B BálãH á½ãoå×á³ãQ ãUáÊCá¯ãXåsãÙCãQ Ø~ãäËãXå·áW áÙ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empt me not to seek help from other than You when I am distressed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dmin</cp:lastModifiedBy>
  <dcterms:modified xsi:type="dcterms:W3CDTF">2013-10-12T15:57:16Z</dcterms:modified>
  <cp:revision>103</cp:revision>
  <dc:subject/>
  <dc:title>Du`a Makarim al-Akhlaq</dc:title>
</cp:coreProperties>
</file>