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D0AA2AD-9777-4839-A2A4-E458BE8142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88C4317-DCF6-48F5-9C6E-CBB0255EA6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FE51B40-FA4D-43E5-B32F-723BCAC7C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AD712C4-6E9D-471B-B184-FE3982163C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0969BE8-06A7-4CAE-A921-21DC31FCAF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A482D6F-F32F-47E3-89A5-A952634ADC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0503249-FD08-4C57-8B30-07152153C7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92794D5-8BC1-49E4-939D-28F192E207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BF2FA5B-F14D-42F3-B573-F50750E826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E90BD1D-5365-4F1E-8843-A2294339F8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AF2F9F-DD65-44F3-A446-387DDD25DF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CBB351-1199-4237-840D-5726666DE3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E45A-27C4-498B-82FB-BBEB7F2DB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0" y="6553080"/>
            <a:ext cx="9144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9"/>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Times New Roman"/>
                <a:ea typeface="Times New Roman"/>
              </a:rPr>
              <a:t>&lt;footer&gt;</a:t>
            </a:r>
            <a:endParaRPr b="0" lang="en-US" sz="1400" spc="-1" strike="noStrike">
              <a:solidFill>
                <a:srgbClr val="000000"/>
              </a:solidFill>
              <a:latin typeface="Arial"/>
            </a:endParaRPr>
          </a:p>
        </p:txBody>
      </p:sp>
      <p:sp>
        <p:nvSpPr>
          <p:cNvPr id="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99"/>
                </a:solidFill>
                <a:uFillTx/>
                <a:latin typeface="Al-Arial"/>
                <a:ea typeface="Times New Roman"/>
              </a:rPr>
              <a:t>Du'á Wida (by Imam Ja’far as-Sadiq (A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42667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In the name of Alláh, the Beneficent, the Merciful.</a:t>
            </a:r>
            <a:br>
              <a:rPr sz="3200"/>
            </a:br>
            <a:br>
              <a:rPr sz="3200"/>
            </a:br>
            <a:r>
              <a:rPr b="1" lang="ar-SA" sz="3200" spc="-1" strike="noStrike">
                <a:solidFill>
                  <a:srgbClr val="000000"/>
                </a:solidFill>
                <a:latin typeface="Al-Arial"/>
                <a:ea typeface="Times New Roman"/>
              </a:rPr>
              <a:t> </a:t>
            </a:r>
            <a:r>
              <a:rPr b="1" lang="en-GB" sz="3200" spc="-1" strike="noStrike">
                <a:solidFill>
                  <a:srgbClr val="000000"/>
                </a:solidFill>
                <a:latin typeface="Al-Arial"/>
                <a:ea typeface="Times New Roman"/>
              </a:rPr>
              <a:t>O Allah, bless Muhammad and his family</a:t>
            </a:r>
            <a:endParaRPr b="0" lang="en-US" sz="3200" spc="-1" strike="noStrike">
              <a:solidFill>
                <a:srgbClr val="000000"/>
              </a:solidFill>
              <a:latin typeface="Arial"/>
            </a:endParaRPr>
          </a:p>
        </p:txBody>
      </p:sp>
      <p:sp>
        <p:nvSpPr>
          <p:cNvPr id="42" name=""/>
          <p:cNvSpPr/>
          <p:nvPr/>
        </p:nvSpPr>
        <p:spPr>
          <a:xfrm>
            <a:off x="609480" y="1371600"/>
            <a:ext cx="7620120" cy="38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سْمِ ا اللّهِ الرَّحْمَانِ الرَّحِيْمِ</a:t>
            </a:r>
            <a:endParaRPr b="0" lang="en-US" sz="5500" spc="-1" strike="noStrike">
              <a:solidFill>
                <a:srgbClr val="000000"/>
              </a:solidFill>
              <a:latin typeface="Arial"/>
            </a:endParaRPr>
          </a:p>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صَلِّ عَلى مُحَمَّدٍ وَالِ مُحَمَّدٍ</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1911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 Allah, accept it from us with, Your most gracious acceptance, Your overlooking (the faults), Your pardon, Your forgiveness and Your true pleasure. Untill You make us triumphant in it, with every desired good </a:t>
            </a:r>
            <a:endParaRPr b="0" lang="en-US" sz="3200" spc="-1" strike="noStrike">
              <a:solidFill>
                <a:srgbClr val="000000"/>
              </a:solidFill>
              <a:latin typeface="Arial"/>
            </a:endParaRPr>
          </a:p>
        </p:txBody>
      </p:sp>
      <p:sp>
        <p:nvSpPr>
          <p:cNvPr id="60" name=""/>
          <p:cNvSpPr/>
          <p:nvPr/>
        </p:nvSpPr>
        <p:spPr>
          <a:xfrm>
            <a:off x="0" y="7462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فَتَقَبَّلْهُ مِنَّا بِاَحْسَنِ قَبُوْلِكَ وَتَجَاوُزِ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عَفْوِكَ وَصَفْحِكَ وَغُفْرَانِكَ وَحَقِيْقَةِ رِضْوَانِ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حَتى تُظَفِّرَنَا فِيْهِ بِكُلِّ خَيْرٍ مَطْلُوْبٍ</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generous giving. And protect us in it from every feared thing, or drawn affliction or earned sin. O, Allah, I beseech You of the greatest of what anyone of Your creation has beseeched You,</a:t>
            </a:r>
            <a:endParaRPr b="0" lang="en-US" sz="3200" spc="-1" strike="noStrike">
              <a:solidFill>
                <a:srgbClr val="000000"/>
              </a:solidFill>
              <a:latin typeface="Arial"/>
            </a:endParaRPr>
          </a:p>
        </p:txBody>
      </p:sp>
      <p:sp>
        <p:nvSpPr>
          <p:cNvPr id="62"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جَزِيْلِ عَطَاءٍ مَوْهُوْبٍ وَتُوْقِيْنَا فِيْهِ مِ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كُلِّ مَرْهُوْبٍ اَوْ بَلاَءٍ مَجْلُوْبٍ اوْ ذَنْبٍ مَكْسُوْبٍ</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اِنَّ اسْئَلُكَ بِعَظِيْمِ مَا سَأَلَكَ بِهِ اَحَدٌ</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from Your noble names, and Your beautiful praise, and Your special prayers, Bless Muhammad and his family, </a:t>
            </a:r>
            <a:endParaRPr b="0" lang="en-US" sz="3200" spc="-1" strike="noStrike">
              <a:solidFill>
                <a:srgbClr val="000000"/>
              </a:solidFill>
              <a:latin typeface="Arial"/>
            </a:endParaRPr>
          </a:p>
        </p:txBody>
      </p:sp>
      <p:sp>
        <p:nvSpPr>
          <p:cNvPr id="64"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خَلْقِكَ مِنْ كَرِيْمِ اَسْمَائِكَ وَجَمِيْلِ ثَنَائِ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خَاصَّةِ دُعَائِ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نْ تُصَلِّ عَلى مُحَمَّدٍ وَالِ مُحَمَّدٍ</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make this month of Ramadan, the greatest month of Ramadan ever passed for us, since we came down to the world, in the protection of my religion, And sincerity of my soul, and fulfilment of my wishes</a:t>
            </a:r>
            <a:endParaRPr b="0" lang="en-US" sz="3200" spc="-1" strike="noStrike">
              <a:solidFill>
                <a:srgbClr val="000000"/>
              </a:solidFill>
              <a:latin typeface="Arial"/>
            </a:endParaRPr>
          </a:p>
        </p:txBody>
      </p:sp>
      <p:sp>
        <p:nvSpPr>
          <p:cNvPr id="66"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نْ تَجْعَلَ شَهْرَنَا هذَا اَعْظَمَ شَهْرِ رَمَضَانَ مَرَّ عَلَيْنَا مُنْذُ اَنْزَلْتَنَا اِلَى الدُّنْيَا بَرَكَةً فِي عِصْمَةِ دِيْنِ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خَلاَصِ نَفْسِي وَقَضَاءِ حَوَآئِجِ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completion of benefits on me, and removal of evil on me, and a garment of health on me, and make me, by Your mercy, from those for whom You have</a:t>
            </a:r>
            <a:endParaRPr b="0" lang="en-US" sz="3200" spc="-1" strike="noStrike">
              <a:solidFill>
                <a:srgbClr val="000000"/>
              </a:solidFill>
              <a:latin typeface="Arial"/>
            </a:endParaRPr>
          </a:p>
        </p:txBody>
      </p:sp>
      <p:sp>
        <p:nvSpPr>
          <p:cNvPr id="68"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تُشَفِّعَنِي فِي مَسَآئِلِي وَتَمَامِ النِّعْمَةِ عَلَيَّ</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صَرَفِ السُّوْءِ عَنِّي وَلِبَاسِ الْعَافِيَةِ لِي فِيْ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نْ تَجْعَلَنِي بِرَحْمَتِكَ مِمَّنْ اَدْخَرْتَ لَ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kept the night of Power, and for whom You have made it better than a thousand nights through great reward, stored magnanimity, and gracious gratitude, and long life, and continuous ease.</a:t>
            </a:r>
            <a:endParaRPr b="0" lang="en-US" sz="3200" spc="-1" strike="noStrike">
              <a:solidFill>
                <a:srgbClr val="000000"/>
              </a:solidFill>
              <a:latin typeface="Arial"/>
            </a:endParaRPr>
          </a:p>
        </p:txBody>
      </p:sp>
      <p:sp>
        <p:nvSpPr>
          <p:cNvPr id="70"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لَيْلَةَ الْقَدْرِ وَجَعَلْتَهَا لَهُ خَيْرًا مِنْ اَلْفِ شَهْ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ي اَعْظِمِ الأَجْرِ وَكَرَائِمِ الذُّخْرِ وَحُسْنِ الشُّكْ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طُوْلِ الْعُمْرِ وَدَوَامِ الْيُسْرِ</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 Allah, I beseech You from Your mercy, Your power, Your pardon Your favours, Your sublimity, and Your favours and graces of old, not to let this be</a:t>
            </a:r>
            <a:endParaRPr b="0" lang="en-US" sz="3200" spc="-1" strike="noStrike">
              <a:solidFill>
                <a:srgbClr val="000000"/>
              </a:solidFill>
              <a:latin typeface="Arial"/>
            </a:endParaRPr>
          </a:p>
        </p:txBody>
      </p:sp>
      <p:sp>
        <p:nvSpPr>
          <p:cNvPr id="72"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وَاَسْئَلُكَ بِرَحْمَتِكَ وَطَوْلِكَ وَعَفْوِ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نَعْمَائِكَ وَجَلاَلِكَ وَقَدِيْمِ اِحْسَانِ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مْتِنَانِكَ اَنْ لاَ تَجْعَلَ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ur last Ramadan until You make us reach the next [Ramadan] in the best of condition. And make us know its crescent with those who witness it and recognise it, </a:t>
            </a:r>
            <a:endParaRPr b="0" lang="en-US" sz="3200" spc="-1" strike="noStrike">
              <a:solidFill>
                <a:srgbClr val="000000"/>
              </a:solidFill>
              <a:latin typeface="Arial"/>
            </a:endParaRPr>
          </a:p>
        </p:txBody>
      </p:sp>
      <p:sp>
        <p:nvSpPr>
          <p:cNvPr id="74"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آخِرِ الْعَهْدِ مِنَّا لِشَهْرِ رَمَضَانَ حَتّى تُبَلِّغَنَا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قَابِلٍ عَلى اَحْسَنِ حَالٍ وَتُعَرِّفَنِي هِلاَ لَ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عَ النَّاظِرِيْنَ اِلَيْهِ وَالْمُعْتَرِفِيْنَ لَ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in the best of health from You, the best of Your bounties, the most abundant of Your mercy, and the best of reward in Your decree. My Lord, He who is there is no Lord for me other than Him,</a:t>
            </a:r>
            <a:endParaRPr b="0" lang="en-US" sz="3200" spc="-1" strike="noStrike">
              <a:solidFill>
                <a:srgbClr val="000000"/>
              </a:solidFill>
              <a:latin typeface="Arial"/>
            </a:endParaRPr>
          </a:p>
        </p:txBody>
      </p:sp>
      <p:sp>
        <p:nvSpPr>
          <p:cNvPr id="76"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ي اَعْفى عَافِيَتِكَ وَاَنْعَمِ نِعْمَتِ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وْسَعِ رَحْمَتِكَ وَاَجْزَلِ قِسْمِ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رَبِّيَ الَّذِي لَيْسَ لِي رَبٌّ غَيْرُهُ لاَ يَكُوْ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do not let this farewell [of Ramadan] be the farewell of termination, nor the final covenant from me till the meeting [at death] until You have shown me from the coming [Ramadan] through abundance of blessings, </a:t>
            </a:r>
            <a:endParaRPr b="0" lang="en-US" sz="3200" spc="-1" strike="noStrike">
              <a:solidFill>
                <a:srgbClr val="000000"/>
              </a:solidFill>
              <a:latin typeface="Arial"/>
            </a:endParaRPr>
          </a:p>
        </p:txBody>
      </p:sp>
      <p:sp>
        <p:nvSpPr>
          <p:cNvPr id="78"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هذَا الْوِدَاعُ مِنِّي لَهُ وِدَاعَ فَنَا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لاَ آخِرَ الْعَهْدِ مِنِّي لِلِقَا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حَتّى تُرِيَنِيْهِ مِنْ قَابِلٍ فِي اَوْسَعِ النِّعَ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114800"/>
            <a:ext cx="8610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 Allah, You have said in Your revealed book, month of  Ramadan in which the Qur’an was revealed.(2:185) And now this month of Ramadan, has completed, </a:t>
            </a:r>
            <a:endParaRPr b="0" lang="en-US" sz="3200" spc="-1" strike="noStrike">
              <a:solidFill>
                <a:srgbClr val="000000"/>
              </a:solidFill>
              <a:latin typeface="Arial"/>
            </a:endParaRPr>
          </a:p>
        </p:txBody>
      </p:sp>
      <p:sp>
        <p:nvSpPr>
          <p:cNvPr id="44" name=""/>
          <p:cNvSpPr/>
          <p:nvPr/>
        </p:nvSpPr>
        <p:spPr>
          <a:xfrm>
            <a:off x="762120" y="593640"/>
            <a:ext cx="7619760" cy="61268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اِنَّكَ قُلْتَ فِي كِتَابِكَ الْمُنْزَلِ</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شَهْرُ رَمَضَانَ الًَّذِي اُنْزِلَ فِيْهِ الْقُرْآنُ</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هذَا شَهْرُ رَمَضَانَ وَقَدْ تَصَرَّ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the best of hopes, and I am most loyal to You, Surely You listen to the prayer. O Allah, hear my supplication, and have mercy on my submissiveness, </a:t>
            </a:r>
            <a:endParaRPr b="0" lang="en-US" sz="3200" spc="-1" strike="noStrike">
              <a:solidFill>
                <a:srgbClr val="000000"/>
              </a:solidFill>
              <a:latin typeface="Arial"/>
            </a:endParaRPr>
          </a:p>
        </p:txBody>
      </p:sp>
      <p:sp>
        <p:nvSpPr>
          <p:cNvPr id="80"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فْضَلِ الرَّجَاءِ وَاَنَا لَكَ عَلى اَحْسَنِ الْوَفَاءِ اِنَّكَ سَمِيْعُ الدُّعَا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اسْمَعْ دُعَآئِي وَارْحَمْ تَضَرُّعِ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my humbleness to You, and my dependence and reliance on You. I am submissive to You, I do not hope for success except through You and from You, so be generous to me, exalted is Your praise,</a:t>
            </a:r>
            <a:endParaRPr b="0" lang="en-US" sz="3200" spc="-1" strike="noStrike">
              <a:solidFill>
                <a:srgbClr val="000000"/>
              </a:solidFill>
              <a:latin typeface="Arial"/>
            </a:endParaRPr>
          </a:p>
        </p:txBody>
      </p:sp>
      <p:sp>
        <p:nvSpPr>
          <p:cNvPr id="82"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تَذَلُّلِي لَكَ وَاسْتِكَانَتِي وَتَوَكُّلِي عَلَيْكَ وَاَنَا لَكَ مُسَلِّمٌ لاَ اَرْجُو نَجَاحًا وَلاَ مُعَافَةً وَلاَ تَشْرِيْفًا وَلاَ تَبْلِيْغًا اِلاَّ بِكَ وَمِنْكَ وَامْنُنْ عَلَيَّ جَلَّ ثَنَّاؤُ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holy are Your names, Through the reaching of the month of Ramadan, and making me free of every disliked thing, every danger, and all misfortunes. </a:t>
            </a:r>
            <a:endParaRPr b="0" lang="en-US" sz="3200" spc="-1" strike="noStrike">
              <a:solidFill>
                <a:srgbClr val="000000"/>
              </a:solidFill>
              <a:latin typeface="Arial"/>
            </a:endParaRPr>
          </a:p>
        </p:txBody>
      </p:sp>
      <p:sp>
        <p:nvSpPr>
          <p:cNvPr id="84"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تَقَدَّسَتْ اَسْمَاؤُكَ بِتَبْلِيْغِِ شَهْرَ رَمَضَانَ</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نَا مُعَافًا مِنْ كُلِّ مَكْرُوْهٍ وَمَحْذُوْ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مِنْ جَمِيْعِ الْبَوَائِقِ</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ll praise is for Allah, who helped us with the fasts of this month, and the rising in it [for prayer] until the last night from it has reached us.</a:t>
            </a:r>
            <a:endParaRPr b="0" lang="en-US" sz="3200" spc="-1" strike="noStrike">
              <a:solidFill>
                <a:srgbClr val="000000"/>
              </a:solidFill>
              <a:latin typeface="Arial"/>
            </a:endParaRPr>
          </a:p>
        </p:txBody>
      </p:sp>
      <p:sp>
        <p:nvSpPr>
          <p:cNvPr id="86" name=""/>
          <p:cNvSpPr/>
          <p:nvPr/>
        </p:nvSpPr>
        <p:spPr>
          <a:xfrm>
            <a:off x="0" y="60948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حَمْدُ لِلّهِ الَّذِي اَعَانَنَا عَلى صِيَامِ هذَا الشَّهْ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قِيَامِهِ حَتّى بَلَّغَنِي آخِرَ لَيْلَةِ مِنْهُ</a:t>
            </a:r>
            <a:r>
              <a:rPr b="1" lang="ar-SA" sz="5500" spc="-1" strike="noStrike">
                <a:solidFill>
                  <a:srgbClr val="000000"/>
                </a:solidFill>
                <a:latin typeface="Times New Roman"/>
                <a:ea typeface="Traditional Arabic"/>
              </a:rPr>
              <a:t>.</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41911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So I beseech You, by Your Noble Countenance, and Your perfect words, if there is any sin on me which You have not forgiven, or which You want to punish me for, or take me to account for,</a:t>
            </a:r>
            <a:endParaRPr b="0" lang="en-US" sz="3200" spc="-1" strike="noStrike">
              <a:solidFill>
                <a:srgbClr val="000000"/>
              </a:solidFill>
              <a:latin typeface="Arial"/>
            </a:endParaRPr>
          </a:p>
        </p:txBody>
      </p:sp>
      <p:sp>
        <p:nvSpPr>
          <p:cNvPr id="46" name=""/>
          <p:cNvSpPr/>
          <p:nvPr/>
        </p:nvSpPr>
        <p:spPr>
          <a:xfrm>
            <a:off x="152280" y="990720"/>
            <a:ext cx="8915400" cy="61268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أَسْئَلُكَ بِوَجْهِكَ الْكَرِيْمِ وَكَلِمَاتِكَ التَّامَّةِ</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نْ كَانَ بَقِيَ عَلَيَّ ذَنْبٌ لَمْ تَغْفِرْهُ لِي</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وْ تُرِيْدُ اَنْ تُعَذِّبَنِي عَلَيْهِ اَوْ تُقَايِسَنِي بِ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96216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I beseech You) to not let this night pass, nor this month be completed, except that You have forgiven me, O Most Merciful of the merciful. O Allah for You is all praise, for all Your praiseworthy acts, the first of them, and the last of them,</a:t>
            </a:r>
            <a:endParaRPr b="0" lang="en-US" sz="3200" spc="-1" strike="noStrike">
              <a:solidFill>
                <a:srgbClr val="000000"/>
              </a:solidFill>
              <a:latin typeface="Arial"/>
            </a:endParaRPr>
          </a:p>
        </p:txBody>
      </p:sp>
      <p:sp>
        <p:nvSpPr>
          <p:cNvPr id="48" name=""/>
          <p:cNvSpPr/>
          <p:nvPr/>
        </p:nvSpPr>
        <p:spPr>
          <a:xfrm>
            <a:off x="0" y="82224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نْ لاَ يَطْلُعَ فَجْرُ هذِهِ الَّيْلَةِ اَوْ يَتَصَرَّمَ هذَ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شَّهْرُ الاَّ قَدْ غَفَرْتَهُ لِي يَا اَرْحَمَ الرَّاحِمِ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لَكَ الْحَمْدُ بِمَحَامِدِكَ كُلِّهَا اوَّلِهَا وَآخِرِهَا</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26672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what You have said of it for Yourself, and what the creatures have said, the praises, the strugglers, the few, who have fulfilled Your remembrance and Your praise,</a:t>
            </a:r>
            <a:endParaRPr b="0" lang="en-US" sz="3200" spc="-1" strike="noStrike">
              <a:solidFill>
                <a:srgbClr val="000000"/>
              </a:solidFill>
              <a:latin typeface="Arial"/>
            </a:endParaRPr>
          </a:p>
        </p:txBody>
      </p:sp>
      <p:sp>
        <p:nvSpPr>
          <p:cNvPr id="50" name=""/>
          <p:cNvSpPr/>
          <p:nvPr/>
        </p:nvSpPr>
        <p:spPr>
          <a:xfrm>
            <a:off x="762120" y="593640"/>
            <a:ext cx="761976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ا قُلْتَ لِنَفْسِكَ مِنْهَا وَمَا قَالَ الْخَلاَئِقُ</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حَامِدُوْنَ الْمُجْتَهِدُوْنَ الْمَعْدُوْدُوْ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مُوُفَّرُوْنَ ذِكْرَكَ وَشُكْرَكَ لَ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733920"/>
            <a:ext cx="883944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those who You have helped to fulfil You right, among Your various creation, of the near angels, and the Prophets, and the Messengers. And the various utterers and those who glorify You,</a:t>
            </a:r>
            <a:endParaRPr b="0" lang="en-US" sz="3200" spc="-1" strike="noStrike">
              <a:solidFill>
                <a:srgbClr val="000000"/>
              </a:solidFill>
              <a:latin typeface="Arial"/>
            </a:endParaRPr>
          </a:p>
        </p:txBody>
      </p:sp>
      <p:sp>
        <p:nvSpPr>
          <p:cNvPr id="52" name=""/>
          <p:cNvSpPr/>
          <p:nvPr/>
        </p:nvSpPr>
        <p:spPr>
          <a:xfrm>
            <a:off x="0" y="6984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ذِيْنَ اَعَنْتَهُمْ عَلى اَدَاءِ حَقِّكَ مِنْ اَصْنَفِ خَلْقِ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الْمَلاَئِكَةِ الْمُقَرَّبِيْنَ وَالنَّبِيِّيْنَ وَالْمُرْسَلِ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صْنَافِ النَّاطِقِيْنَ وَالْمُسَبِّحِيْنَ لَ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733560"/>
            <a:ext cx="91440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from all of the worlds. You have made the month of Ramadan reach us, and given us of Your bounties, and we have Your provision and Your favour, and You apparent blessing</a:t>
            </a:r>
            <a:br>
              <a:rPr sz="3200"/>
            </a:br>
            <a:endParaRPr b="0" lang="en-US" sz="3200" spc="-1" strike="noStrike">
              <a:solidFill>
                <a:srgbClr val="000000"/>
              </a:solidFill>
              <a:latin typeface="Arial"/>
            </a:endParaRPr>
          </a:p>
        </p:txBody>
      </p:sp>
      <p:sp>
        <p:nvSpPr>
          <p:cNvPr id="54" name=""/>
          <p:cNvSpPr/>
          <p:nvPr/>
        </p:nvSpPr>
        <p:spPr>
          <a:xfrm>
            <a:off x="0" y="57780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جَمِيْعِ الْعَالَمِيْنَ عَلى اَنََّكَ بَلَّغْتَنَا شَهْرَ رَمَضَا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عَلَيْنَا مِنْ نِعَمِكَ وَعِنْدَمَا مِنْ قِسَمِ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حِسَانِكَ وَتَظَاهُرِ امْتِنَانِ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3580920"/>
            <a:ext cx="899136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So for that is ultimate praise for You, (Praise which is) for ever, continuous, tranquil, infinitely eternal, which does not finish for all times, exalted be Your praise.</a:t>
            </a:r>
            <a:endParaRPr b="0" lang="en-US" sz="3200" spc="-1" strike="noStrike">
              <a:solidFill>
                <a:srgbClr val="000000"/>
              </a:solidFill>
              <a:latin typeface="Arial"/>
            </a:endParaRPr>
          </a:p>
        </p:txBody>
      </p:sp>
      <p:sp>
        <p:nvSpPr>
          <p:cNvPr id="56" name=""/>
          <p:cNvSpPr/>
          <p:nvPr/>
        </p:nvSpPr>
        <p:spPr>
          <a:xfrm>
            <a:off x="152280" y="609480"/>
            <a:ext cx="883944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بِذَالِكَ لَكَ مُنْتَهى الْحَمْدُ الْخَالِدِ الدَّآئِمِ</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رَّاكِدِ الْمُخَلِّدِ السَّرْمَدِ الَّذِي لاَ يَنْفَدُ</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طُوْلَ الأَبَدِ جَلَّ ثَنَاؤُ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86200"/>
            <a:ext cx="82296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You helped us in it, until You fulfilled in it for us its fasts and rising for prayers in it,</a:t>
            </a:r>
            <a:br>
              <a:rPr sz="3200"/>
            </a:br>
            <a:r>
              <a:rPr b="1" lang="en-GB" sz="3200" spc="-1" strike="noStrike">
                <a:solidFill>
                  <a:srgbClr val="000000"/>
                </a:solidFill>
                <a:latin typeface="Al-Arial"/>
                <a:ea typeface="Times New Roman"/>
              </a:rPr>
              <a:t>and whatever we did in it of good, gratitude and remembrance.</a:t>
            </a:r>
            <a:endParaRPr b="0" lang="en-US" sz="3200" spc="-1" strike="noStrike">
              <a:solidFill>
                <a:srgbClr val="000000"/>
              </a:solidFill>
              <a:latin typeface="Arial"/>
            </a:endParaRPr>
          </a:p>
        </p:txBody>
      </p:sp>
      <p:sp>
        <p:nvSpPr>
          <p:cNvPr id="58" name=""/>
          <p:cNvSpPr/>
          <p:nvPr/>
        </p:nvSpPr>
        <p:spPr>
          <a:xfrm>
            <a:off x="0" y="68580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عَنْتَنَا عَلَيْهِ حَتّى قَضَيْتَ عَنَّا صِيَامَهُ وَقِيَامَ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صَلاَةٍ وَمَا كَانَ مِنَّا فِيْهِ مِنْ بِرٍّ اَوْ شُكْرٍ اوْ ذِكْرٍ</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12:35:22Z</dcterms:created>
  <dc:creator>Shia Ithna’sheri Community of Middlesex (Mahfil Ali)</dc:creator>
  <dc:description/>
  <dc:language>en-US</dc:language>
  <cp:lastModifiedBy>Kumail Versi</cp:lastModifiedBy>
  <dcterms:modified xsi:type="dcterms:W3CDTF">2009-09-17T12:41:16Z</dcterms:modified>
  <cp:revision>317</cp:revision>
  <dc:subject/>
  <dc:title>Dua Nudba</dc:title>
</cp:coreProperties>
</file>