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1FF45EA9-4969-4BA7-91F1-46C0CDAE8A1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7FE5B12-C4FF-455E-B633-ABA543165CC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E46BB46D-4D10-49CB-89C8-AF9FD47EF3E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BF3582CE-9547-48A1-90DE-A224DAD4072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6F92B99-A0B5-4354-8258-8A0607F81C2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34E3970-E2E2-4940-9093-8186401A8A1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3D8B8E6-B4B2-49A9-9869-5B1E0D5A976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14E0928-EB36-49FF-8B07-EF5A3C51547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4B0E98A-1A66-4B42-90B4-18FC5ACDA86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384E188-5DE9-4A46-A1BD-2ED0EC162C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B986A2B-DB51-4186-A47B-A19B8F7BB3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0FFC967-7075-4B91-B5D5-5CC96CAA875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754E4-E2E0-4258-9B52-9A526410E6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 name="PlaceHolder 4"/>
          <p:cNvSpPr>
            <a:spLocks noGrp="1"/>
          </p:cNvSpPr>
          <p:nvPr>
            <p:ph type="ftr" idx="2"/>
          </p:nvPr>
        </p:nvSpPr>
        <p:spPr>
          <a:xfrm>
            <a:off x="0" y="6553080"/>
            <a:ext cx="91440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99"/>
                </a:solidFill>
                <a:latin typeface="Times New Roman"/>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99"/>
                </a:solidFill>
                <a:latin typeface="Times New Roman"/>
                <a:ea typeface="Times New Roman"/>
              </a:rPr>
              <a:t>&lt;footer&gt;</a:t>
            </a:r>
            <a:endParaRPr b="0" lang="en-US" sz="1400" spc="-1" strike="noStrike">
              <a:solidFill>
                <a:srgbClr val="000000"/>
              </a:solidFill>
              <a:latin typeface="Arial"/>
            </a:endParaRPr>
          </a:p>
        </p:txBody>
      </p:sp>
      <p:sp>
        <p:nvSpPr>
          <p:cNvPr id="4" name=""/>
          <p:cNvSpPr/>
          <p:nvPr/>
        </p:nvSpPr>
        <p:spPr>
          <a:xfrm>
            <a:off x="0" y="0"/>
            <a:ext cx="91440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99"/>
                </a:solidFill>
                <a:uFillTx/>
                <a:latin typeface="Al-Arial"/>
                <a:ea typeface="Times New Roman"/>
              </a:rPr>
              <a:t>Du'á Wida (by Imam Ja’far as-Sadiq (AS))</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42667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In the name of Alláh, the Beneficent, the Merciful.</a:t>
            </a:r>
            <a:br>
              <a:rPr sz="3200"/>
            </a:br>
            <a:br>
              <a:rPr sz="3200"/>
            </a:br>
            <a:r>
              <a:rPr b="1" lang="ar-SA" sz="3200" spc="-1" strike="noStrike">
                <a:solidFill>
                  <a:srgbClr val="000000"/>
                </a:solidFill>
                <a:latin typeface="Al-Arial"/>
                <a:ea typeface="Times New Roman"/>
              </a:rPr>
              <a:t> </a:t>
            </a:r>
            <a:r>
              <a:rPr b="1" lang="en-GB" sz="3200" spc="-1" strike="noStrike">
                <a:solidFill>
                  <a:srgbClr val="000000"/>
                </a:solidFill>
                <a:latin typeface="Al-Arial"/>
                <a:ea typeface="Times New Roman"/>
              </a:rPr>
              <a:t>O Allah, bless Muhammad and his family</a:t>
            </a:r>
            <a:endParaRPr b="0" lang="en-US" sz="3200" spc="-1" strike="noStrike">
              <a:solidFill>
                <a:srgbClr val="000000"/>
              </a:solidFill>
              <a:latin typeface="Arial"/>
            </a:endParaRPr>
          </a:p>
        </p:txBody>
      </p:sp>
      <p:sp>
        <p:nvSpPr>
          <p:cNvPr id="42" name=""/>
          <p:cNvSpPr/>
          <p:nvPr/>
        </p:nvSpPr>
        <p:spPr>
          <a:xfrm>
            <a:off x="609480" y="1371600"/>
            <a:ext cx="7620120" cy="388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بِسْمِ ا اللّهِ الرَّحْمَانِ الرَّحِيْمِ</a:t>
            </a:r>
            <a:endParaRPr b="0" lang="en-US" sz="5500" spc="-1" strike="noStrike">
              <a:solidFill>
                <a:srgbClr val="000000"/>
              </a:solidFill>
              <a:latin typeface="Arial"/>
            </a:endParaRPr>
          </a:p>
          <a:p>
            <a:pPr algn="ctr">
              <a:lnSpc>
                <a:spcPct val="100000"/>
              </a:lnSpc>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للّهُمَّ صَلِّ عَلى مُحَمَّدٍ وَالِ مُحَمَّدٍ</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4191120"/>
            <a:ext cx="8229600" cy="2133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l-Arial"/>
                <a:ea typeface="Times New Roman"/>
              </a:rPr>
              <a:t>O Allah, accept it from us with, Your most gracious acceptance, Your overlooking (the faults), Your pardon, Your forgiveness and Your true pleasure. Untill You make us triumphant in it, with every desired good </a:t>
            </a:r>
            <a:endParaRPr b="0" lang="en-US" sz="3200" spc="-1" strike="noStrike">
              <a:solidFill>
                <a:srgbClr val="000000"/>
              </a:solidFill>
              <a:latin typeface="Arial"/>
            </a:endParaRPr>
          </a:p>
        </p:txBody>
      </p:sp>
      <p:sp>
        <p:nvSpPr>
          <p:cNvPr id="60" name=""/>
          <p:cNvSpPr/>
          <p:nvPr/>
        </p:nvSpPr>
        <p:spPr>
          <a:xfrm>
            <a:off x="0" y="746280"/>
            <a:ext cx="9144000" cy="6126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للّهُمَّ فَتَقَبَّلْهُ مِنَّا بِاَحْسَنِ قَبُوْلِكَ وَتَجَاوُزِكَ</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عَفْوِكَ وَصَفْحِكَ وَغُفْرَانِكَ وَحَقِيْقَةِ رِضْوَانِكَ</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حَتى تُظَفِّرَنَا فِيْهِ بِكُلِّ خَيْرٍ مَطْلُوْبٍ</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76320" y="3885840"/>
            <a:ext cx="8991360" cy="2590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l-Arial"/>
                <a:ea typeface="Times New Roman"/>
              </a:rPr>
              <a:t>and generous giving. And protect us in it from every feared thing, or drawn affliction or earned sin. O, Allah, I beseech You of the greatest of what anyone of Your creation has beseeched You,</a:t>
            </a:r>
            <a:endParaRPr b="0" lang="en-US" sz="3200" spc="-1" strike="noStrike">
              <a:solidFill>
                <a:srgbClr val="000000"/>
              </a:solidFill>
              <a:latin typeface="Arial"/>
            </a:endParaRPr>
          </a:p>
        </p:txBody>
      </p:sp>
      <p:sp>
        <p:nvSpPr>
          <p:cNvPr id="62" name=""/>
          <p:cNvSpPr/>
          <p:nvPr/>
        </p:nvSpPr>
        <p:spPr>
          <a:xfrm>
            <a:off x="0" y="609480"/>
            <a:ext cx="9144000" cy="6126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جَزِيْلِ عَطَاءٍ مَوْهُوْبٍ وَتُوْقِيْنَا فِيْهِ مِنْ</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كُلِّ مَرْهُوْبٍ اَوْ بَلاَءٍ مَجْلُوْبٍ اوْ ذَنْبٍ مَكْسُوْبٍ</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للّهُمَّ اِنَّ اسْئَلُكَ بِعَظِيْمِ مَا سَأَلَكَ بِهِ اَحَدٌ</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6320" y="3885840"/>
            <a:ext cx="8991360" cy="2590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l-Arial"/>
                <a:ea typeface="Times New Roman"/>
              </a:rPr>
              <a:t>from Your noble names, and Your beautiful praise, and Your special prayers, Bless Muhammad and his family, </a:t>
            </a:r>
            <a:endParaRPr b="0" lang="en-US" sz="3200" spc="-1" strike="noStrike">
              <a:solidFill>
                <a:srgbClr val="000000"/>
              </a:solidFill>
              <a:latin typeface="Arial"/>
            </a:endParaRPr>
          </a:p>
        </p:txBody>
      </p:sp>
      <p:sp>
        <p:nvSpPr>
          <p:cNvPr id="64" name=""/>
          <p:cNvSpPr/>
          <p:nvPr/>
        </p:nvSpPr>
        <p:spPr>
          <a:xfrm>
            <a:off x="0" y="609480"/>
            <a:ext cx="9144000" cy="51213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مِنْ خَلْقِكَ مِنْ كَرِيْمِ اَسْمَائِكَ وَجَمِيْلِ ثَنَائِكَ</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خَاصَّةِ دُعَائِكَ</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نْ تُصَلِّ عَلى مُحَمَّدٍ وَالِ مُحَمَّدٍ</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76320" y="3885840"/>
            <a:ext cx="8991360" cy="2590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l-Arial"/>
                <a:ea typeface="Times New Roman"/>
              </a:rPr>
              <a:t>and make this month of Ramadan, the greatest month of Ramadan ever passed for us, since we came down to the world, in the protection of my religion, And sincerity of my soul, and fulfilment of my wishes</a:t>
            </a:r>
            <a:endParaRPr b="0" lang="en-US" sz="3200" spc="-1" strike="noStrike">
              <a:solidFill>
                <a:srgbClr val="000000"/>
              </a:solidFill>
              <a:latin typeface="Arial"/>
            </a:endParaRPr>
          </a:p>
        </p:txBody>
      </p:sp>
      <p:sp>
        <p:nvSpPr>
          <p:cNvPr id="66" name=""/>
          <p:cNvSpPr/>
          <p:nvPr/>
        </p:nvSpPr>
        <p:spPr>
          <a:xfrm>
            <a:off x="0" y="609480"/>
            <a:ext cx="9144000" cy="6126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اَنْ تَجْعَلَ شَهْرَنَا هذَا اَعْظَمَ شَهْرِ رَمَضَانَ مَرَّ عَلَيْنَا مُنْذُ اَنْزَلْتَنَا اِلَى الدُّنْيَا بَرَكَةً فِي عِصْمَةِ دِيْنِي</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خَلاَصِ نَفْسِي وَقَضَاءِ حَوَآئِجِي</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6320" y="3885840"/>
            <a:ext cx="8991360" cy="2590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l-Arial"/>
                <a:ea typeface="Times New Roman"/>
              </a:rPr>
              <a:t>and completion of benefits on me, and removal of evil on me, and a garment of health on me, and make me, by Your mercy, from those for whom You have</a:t>
            </a:r>
            <a:endParaRPr b="0" lang="en-US" sz="3200" spc="-1" strike="noStrike">
              <a:solidFill>
                <a:srgbClr val="000000"/>
              </a:solidFill>
              <a:latin typeface="Arial"/>
            </a:endParaRPr>
          </a:p>
        </p:txBody>
      </p:sp>
      <p:sp>
        <p:nvSpPr>
          <p:cNvPr id="68" name=""/>
          <p:cNvSpPr/>
          <p:nvPr/>
        </p:nvSpPr>
        <p:spPr>
          <a:xfrm>
            <a:off x="0" y="609480"/>
            <a:ext cx="9144000" cy="6126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تُشَفِّعَنِي فِي مَسَآئِلِي وَتَمَامِ النِّعْمَةِ عَلَيَّ</a:t>
            </a:r>
            <a:r>
              <a:rPr b="1" lang="ar-SA" sz="5500" spc="-1" strike="noStrike">
                <a:solidFill>
                  <a:srgbClr val="000000"/>
                </a:solidFill>
                <a:latin typeface="Times New Roman"/>
                <a:ea typeface="Traditional Arabic"/>
              </a:rPr>
              <a:t> </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صَرَفِ السُّوْءِ عَنِّي وَلِبَاسِ الْعَافِيَةِ لِي فِيْهِ</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اَنْ تَجْعَلَنِي بِرَحْمَتِكَ مِمَّنْ اَدْخَرْتَ لَهُ</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3885840"/>
            <a:ext cx="8991360" cy="2590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l-Arial"/>
                <a:ea typeface="Times New Roman"/>
              </a:rPr>
              <a:t>kept the night of Power, and for whom You have made it better than a thousand nights through great reward, stored magnanimity, and gracious gratitude, and long life, and continuous ease.</a:t>
            </a:r>
            <a:endParaRPr b="0" lang="en-US" sz="3200" spc="-1" strike="noStrike">
              <a:solidFill>
                <a:srgbClr val="000000"/>
              </a:solidFill>
              <a:latin typeface="Arial"/>
            </a:endParaRPr>
          </a:p>
        </p:txBody>
      </p:sp>
      <p:sp>
        <p:nvSpPr>
          <p:cNvPr id="70" name=""/>
          <p:cNvSpPr/>
          <p:nvPr/>
        </p:nvSpPr>
        <p:spPr>
          <a:xfrm>
            <a:off x="0" y="609480"/>
            <a:ext cx="9144000" cy="51213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لَيْلَةَ الْقَدْرِ وَجَعَلْتَهَا لَهُ خَيْرًا مِنْ اَلْفِ شَهْرٍ</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فِي اَعْظِمِ الأَجْرِ وَكَرَائِمِ الذُّخْرِ وَحُسْنِ الشُّكْرِ</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طُوْلِ الْعُمْرِ وَدَوَامِ الْيُسْرِ</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76320" y="3885840"/>
            <a:ext cx="8991360" cy="2590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l-Arial"/>
                <a:ea typeface="Times New Roman"/>
              </a:rPr>
              <a:t>O Allah, I beseech You from Your mercy, Your power, Your pardon Your favours, Your sublimity, and Your favours and graces of old, not to let this be</a:t>
            </a:r>
            <a:endParaRPr b="0" lang="en-US" sz="3200" spc="-1" strike="noStrike">
              <a:solidFill>
                <a:srgbClr val="000000"/>
              </a:solidFill>
              <a:latin typeface="Arial"/>
            </a:endParaRPr>
          </a:p>
        </p:txBody>
      </p:sp>
      <p:sp>
        <p:nvSpPr>
          <p:cNvPr id="72" name=""/>
          <p:cNvSpPr/>
          <p:nvPr/>
        </p:nvSpPr>
        <p:spPr>
          <a:xfrm>
            <a:off x="0" y="609480"/>
            <a:ext cx="9144000" cy="51213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للّهُمَّ وَاَسْئَلُكَ بِرَحْمَتِكَ وَطَوْلِكَ وَعَفْوِكَ</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نَعْمَائِكَ وَجَلاَلِكَ وَقَدِيْمِ اِحْسَانِكَ</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امْتِنَانِكَ اَنْ لاَ تَجْعَلَهُ</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6320" y="3885840"/>
            <a:ext cx="8991360" cy="2590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l-Arial"/>
                <a:ea typeface="Times New Roman"/>
              </a:rPr>
              <a:t>our last Ramadan until You make us reach the next [Ramadan] in the best of condition. And make us know its crescent with those who witness it and recognise it, </a:t>
            </a:r>
            <a:endParaRPr b="0" lang="en-US" sz="3200" spc="-1" strike="noStrike">
              <a:solidFill>
                <a:srgbClr val="000000"/>
              </a:solidFill>
              <a:latin typeface="Arial"/>
            </a:endParaRPr>
          </a:p>
        </p:txBody>
      </p:sp>
      <p:sp>
        <p:nvSpPr>
          <p:cNvPr id="74" name=""/>
          <p:cNvSpPr/>
          <p:nvPr/>
        </p:nvSpPr>
        <p:spPr>
          <a:xfrm>
            <a:off x="0" y="609480"/>
            <a:ext cx="9144000" cy="6126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آخِرِ الْعَهْدِ مِنَّا لِشَهْرِ رَمَضَانَ حَتّى تُبَلِّغَنَاهُ</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مِنْ قَابِلٍ عَلى اَحْسَنِ حَالٍ وَتُعَرِّفَنِي هِلاَ لَهُ</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مَعَ النَّاظِرِيْنَ اِلَيْهِ وَالْمُعْتَرِفِيْنَ لَهُ</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76320" y="3885840"/>
            <a:ext cx="8991360" cy="2590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l-Arial"/>
                <a:ea typeface="Times New Roman"/>
              </a:rPr>
              <a:t>in the best of health from You, the best of Your bounties, the most abundant of Your mercy, and the best of reward in Your decree. My Lord, He who is there is no Lord for me other than Him,</a:t>
            </a:r>
            <a:endParaRPr b="0" lang="en-US" sz="3200" spc="-1" strike="noStrike">
              <a:solidFill>
                <a:srgbClr val="000000"/>
              </a:solidFill>
              <a:latin typeface="Arial"/>
            </a:endParaRPr>
          </a:p>
        </p:txBody>
      </p:sp>
      <p:sp>
        <p:nvSpPr>
          <p:cNvPr id="76" name=""/>
          <p:cNvSpPr/>
          <p:nvPr/>
        </p:nvSpPr>
        <p:spPr>
          <a:xfrm>
            <a:off x="0" y="609480"/>
            <a:ext cx="9144000" cy="6126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فِي اَعْفى عَافِيَتِكَ وَاَنْعَمِ نِعْمَتِكَ</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اَوْسَعِ رَحْمَتِكَ وَاَجْزَلِ قِسْمِكَ</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يَارَبِّيَ الَّذِي لَيْسَ لِي رَبٌّ غَيْرُهُ لاَ يَكُوْنُ</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6320" y="3885840"/>
            <a:ext cx="8991360" cy="2590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l-Arial"/>
                <a:ea typeface="Times New Roman"/>
              </a:rPr>
              <a:t>do not let this farewell [of Ramadan] be the farewell of termination, nor the final covenant from me till the meeting [at death] until You have shown me from the coming [Ramadan] through abundance of blessings, </a:t>
            </a:r>
            <a:endParaRPr b="0" lang="en-US" sz="3200" spc="-1" strike="noStrike">
              <a:solidFill>
                <a:srgbClr val="000000"/>
              </a:solidFill>
              <a:latin typeface="Arial"/>
            </a:endParaRPr>
          </a:p>
        </p:txBody>
      </p:sp>
      <p:sp>
        <p:nvSpPr>
          <p:cNvPr id="78" name=""/>
          <p:cNvSpPr/>
          <p:nvPr/>
        </p:nvSpPr>
        <p:spPr>
          <a:xfrm>
            <a:off x="0" y="609480"/>
            <a:ext cx="9144000" cy="51213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هذَا الْوِدَاعُ مِنِّي لَهُ وِدَاعَ فَنَاءٍ</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لاَ آخِرَ الْعَهْدِ مِنِّي لِلِقَاءِ</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حَتّى تُرِيَنِيْهِ مِنْ قَابِلٍ فِي اَوْسَعِ النِّعَمِ</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114800"/>
            <a:ext cx="861048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l-Arial"/>
                <a:ea typeface="Times New Roman"/>
              </a:rPr>
              <a:t>O Allah, You have said in Your revealed book, month of  Ramadan in which the Qur’an was revealed.(2:185) And now this month of Ramadan, has completed, </a:t>
            </a:r>
            <a:endParaRPr b="0" lang="en-US" sz="3200" spc="-1" strike="noStrike">
              <a:solidFill>
                <a:srgbClr val="000000"/>
              </a:solidFill>
              <a:latin typeface="Arial"/>
            </a:endParaRPr>
          </a:p>
        </p:txBody>
      </p:sp>
      <p:sp>
        <p:nvSpPr>
          <p:cNvPr id="44" name=""/>
          <p:cNvSpPr/>
          <p:nvPr/>
        </p:nvSpPr>
        <p:spPr>
          <a:xfrm>
            <a:off x="762120" y="593640"/>
            <a:ext cx="7619760" cy="6126840"/>
          </a:xfrm>
          <a:prstGeom prst="rect">
            <a:avLst/>
          </a:prstGeom>
          <a:noFill/>
          <a:ln w="0">
            <a:noFill/>
          </a:ln>
        </p:spPr>
        <p:style>
          <a:lnRef idx="0"/>
          <a:fillRef idx="0"/>
          <a:effectRef idx="0"/>
          <a:fontRef idx="minor"/>
        </p:style>
        <p:txBody>
          <a:bodyPr lIns="90000" rIns="90000" tIns="46800" bIns="46800" anchor="t">
            <a:spAutoFit/>
          </a:bodyPr>
          <a:p>
            <a:pPr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للّهُمَ اِنَّكَ قُلْتَ فِي كِتَابِكَ الْمُنْزَلِ</a:t>
            </a:r>
            <a:endParaRPr b="0" lang="en-US" sz="5500" spc="-1" strike="noStrike">
              <a:solidFill>
                <a:srgbClr val="000000"/>
              </a:solidFill>
              <a:latin typeface="Arial"/>
            </a:endParaRPr>
          </a:p>
          <a:p>
            <a:pPr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شَهْرُ رَمَضَانَ الًَّذِي اُنْزِلَ فِيْهِ الْقُرْآنُ</a:t>
            </a:r>
            <a:endParaRPr b="0" lang="en-US" sz="5500" spc="-1" strike="noStrike">
              <a:solidFill>
                <a:srgbClr val="000000"/>
              </a:solidFill>
              <a:latin typeface="Arial"/>
            </a:endParaRPr>
          </a:p>
          <a:p>
            <a:pPr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هذَا شَهْرُ رَمَضَانَ وَقَدْ تَصَرَّمَ</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76320" y="3885840"/>
            <a:ext cx="8991360" cy="2590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l-Arial"/>
                <a:ea typeface="Times New Roman"/>
              </a:rPr>
              <a:t>the best of hopes, and I am most loyal to You, Surely You listen to the prayer. O Allah, hear my supplication, and have mercy on my submissiveness, </a:t>
            </a:r>
            <a:endParaRPr b="0" lang="en-US" sz="3200" spc="-1" strike="noStrike">
              <a:solidFill>
                <a:srgbClr val="000000"/>
              </a:solidFill>
              <a:latin typeface="Arial"/>
            </a:endParaRPr>
          </a:p>
        </p:txBody>
      </p:sp>
      <p:sp>
        <p:nvSpPr>
          <p:cNvPr id="80" name=""/>
          <p:cNvSpPr/>
          <p:nvPr/>
        </p:nvSpPr>
        <p:spPr>
          <a:xfrm>
            <a:off x="0" y="609480"/>
            <a:ext cx="9144000" cy="51213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اَفْضَلِ الرَّجَاءِ وَاَنَا لَكَ عَلى اَحْسَنِ الْوَفَاءِ اِنَّكَ سَمِيْعُ الدُّعَاءِ</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للّهُمَ اسْمَعْ دُعَآئِي وَارْحَمْ تَضَرُّعِي</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76320" y="3885840"/>
            <a:ext cx="8991360" cy="2590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l-Arial"/>
                <a:ea typeface="Times New Roman"/>
              </a:rPr>
              <a:t>and my humbleness to You, and my dependence and reliance on You. I am submissive to You, I do not hope for success except through You and from You, so be generous to me, exalted is Your praise,</a:t>
            </a:r>
            <a:endParaRPr b="0" lang="en-US" sz="3200" spc="-1" strike="noStrike">
              <a:solidFill>
                <a:srgbClr val="000000"/>
              </a:solidFill>
              <a:latin typeface="Arial"/>
            </a:endParaRPr>
          </a:p>
        </p:txBody>
      </p:sp>
      <p:sp>
        <p:nvSpPr>
          <p:cNvPr id="82" name=""/>
          <p:cNvSpPr/>
          <p:nvPr/>
        </p:nvSpPr>
        <p:spPr>
          <a:xfrm>
            <a:off x="0" y="609480"/>
            <a:ext cx="9144000" cy="6126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تَذَلُّلِي لَكَ وَاسْتِكَانَتِي وَتَوَكُّلِي عَلَيْكَ وَاَنَا لَكَ مُسَلِّمٌ لاَ اَرْجُو نَجَاحًا وَلاَ مُعَافَةً وَلاَ تَشْرِيْفًا وَلاَ تَبْلِيْغًا اِلاَّ بِكَ وَمِنْكَ وَامْنُنْ عَلَيَّ جَلَّ ثَنَّاؤُكَ</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6320" y="3885840"/>
            <a:ext cx="8991360" cy="2590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l-Arial"/>
                <a:ea typeface="Times New Roman"/>
              </a:rPr>
              <a:t>holy are Your names, Through the reaching of the month of Ramadan, and making me free of every disliked thing, every danger, and all misfortunes. </a:t>
            </a:r>
            <a:endParaRPr b="0" lang="en-US" sz="3200" spc="-1" strike="noStrike">
              <a:solidFill>
                <a:srgbClr val="000000"/>
              </a:solidFill>
              <a:latin typeface="Arial"/>
            </a:endParaRPr>
          </a:p>
        </p:txBody>
      </p:sp>
      <p:sp>
        <p:nvSpPr>
          <p:cNvPr id="84" name=""/>
          <p:cNvSpPr/>
          <p:nvPr/>
        </p:nvSpPr>
        <p:spPr>
          <a:xfrm>
            <a:off x="0" y="609480"/>
            <a:ext cx="9144000" cy="51213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تَقَدَّسَتْ اَسْمَاؤُكَ بِتَبْلِيْغِِ شَهْرَ رَمَضَانَ</a:t>
            </a:r>
            <a:r>
              <a:rPr b="1" lang="ar-SA" sz="5500" spc="-1" strike="noStrike">
                <a:solidFill>
                  <a:srgbClr val="000000"/>
                </a:solidFill>
                <a:latin typeface="Times New Roman"/>
                <a:ea typeface="Traditional Arabic"/>
              </a:rPr>
              <a:t> </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اَنَا مُعَافًا مِنْ كُلِّ مَكْرُوْهٍ وَمَحْذُوْرٍ</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مِنْ جَمِيْعِ الْبَوَائِقِ</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6320" y="3885840"/>
            <a:ext cx="8991360" cy="2590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l-Arial"/>
                <a:ea typeface="Times New Roman"/>
              </a:rPr>
              <a:t>All praise is for Allah, who helped us with the fasts of this month, and the rising in it [for prayer] until the last night from it has reached us.</a:t>
            </a:r>
            <a:endParaRPr b="0" lang="en-US" sz="3200" spc="-1" strike="noStrike">
              <a:solidFill>
                <a:srgbClr val="000000"/>
              </a:solidFill>
              <a:latin typeface="Arial"/>
            </a:endParaRPr>
          </a:p>
        </p:txBody>
      </p:sp>
      <p:sp>
        <p:nvSpPr>
          <p:cNvPr id="86" name=""/>
          <p:cNvSpPr/>
          <p:nvPr/>
        </p:nvSpPr>
        <p:spPr>
          <a:xfrm>
            <a:off x="0" y="609480"/>
            <a:ext cx="9144000" cy="4115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لْحَمْدُ لِلّهِ الَّذِي اَعَانَنَا عَلى صِيَامِ هذَا الشَّهْرِ</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قِيَامِهِ حَتّى بَلَّغَنِي آخِرَ لَيْلَةِ مِنْهُ</a:t>
            </a:r>
            <a:r>
              <a:rPr b="1" lang="ar-SA" sz="5500" spc="-1" strike="noStrike">
                <a:solidFill>
                  <a:srgbClr val="000000"/>
                </a:solidFill>
                <a:latin typeface="Times New Roman"/>
                <a:ea typeface="Traditional Arabic"/>
              </a:rPr>
              <a:t>.</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4191120"/>
            <a:ext cx="9144000" cy="2133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l-Arial"/>
                <a:ea typeface="Times New Roman"/>
              </a:rPr>
              <a:t>So I beseech You, by Your Noble Countenance, and Your perfect words, if there is any sin on me which You have not forgiven, or which You want to punish me for, or take me to account for,</a:t>
            </a:r>
            <a:endParaRPr b="0" lang="en-US" sz="3200" spc="-1" strike="noStrike">
              <a:solidFill>
                <a:srgbClr val="000000"/>
              </a:solidFill>
              <a:latin typeface="Arial"/>
            </a:endParaRPr>
          </a:p>
        </p:txBody>
      </p:sp>
      <p:sp>
        <p:nvSpPr>
          <p:cNvPr id="46" name=""/>
          <p:cNvSpPr/>
          <p:nvPr/>
        </p:nvSpPr>
        <p:spPr>
          <a:xfrm>
            <a:off x="152280" y="990720"/>
            <a:ext cx="8915400" cy="6126840"/>
          </a:xfrm>
          <a:prstGeom prst="rect">
            <a:avLst/>
          </a:prstGeom>
          <a:noFill/>
          <a:ln w="0">
            <a:noFill/>
          </a:ln>
        </p:spPr>
        <p:style>
          <a:lnRef idx="0"/>
          <a:fillRef idx="0"/>
          <a:effectRef idx="0"/>
          <a:fontRef idx="minor"/>
        </p:style>
        <p:txBody>
          <a:bodyPr lIns="90000" rIns="90000" tIns="46800" bIns="46800" anchor="t">
            <a:spAutoFit/>
          </a:bodyPr>
          <a:p>
            <a:pPr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فَأَسْئَلُكَ بِوَجْهِكَ الْكَرِيْمِ وَكَلِمَاتِكَ التَّامَّةِ</a:t>
            </a:r>
            <a:endParaRPr b="0" lang="en-US" sz="5500" spc="-1" strike="noStrike">
              <a:solidFill>
                <a:srgbClr val="000000"/>
              </a:solidFill>
              <a:latin typeface="Arial"/>
            </a:endParaRPr>
          </a:p>
          <a:p>
            <a:pPr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نْ كَانَ بَقِيَ عَلَيَّ ذَنْبٌ لَمْ تَغْفِرْهُ لِي</a:t>
            </a:r>
            <a:endParaRPr b="0" lang="en-US" sz="5500" spc="-1" strike="noStrike">
              <a:solidFill>
                <a:srgbClr val="000000"/>
              </a:solidFill>
              <a:latin typeface="Arial"/>
            </a:endParaRPr>
          </a:p>
          <a:p>
            <a:pPr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وْ تُرِيْدُ اَنْ تُعَذِّبَنِي عَلَيْهِ اَوْ تُقَايِسَنِي بِهِ</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3962160"/>
            <a:ext cx="9144000" cy="25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l-Arial"/>
                <a:ea typeface="Times New Roman"/>
              </a:rPr>
              <a:t>(I beseech You) to not let this night pass, nor this month be completed, except that You have forgiven me, O Most Merciful of the merciful. O Allah for You is all praise, for all Your praiseworthy acts, the first of them, and the last of them,</a:t>
            </a:r>
            <a:endParaRPr b="0" lang="en-US" sz="3200" spc="-1" strike="noStrike">
              <a:solidFill>
                <a:srgbClr val="000000"/>
              </a:solidFill>
              <a:latin typeface="Arial"/>
            </a:endParaRPr>
          </a:p>
        </p:txBody>
      </p:sp>
      <p:sp>
        <p:nvSpPr>
          <p:cNvPr id="48" name=""/>
          <p:cNvSpPr/>
          <p:nvPr/>
        </p:nvSpPr>
        <p:spPr>
          <a:xfrm>
            <a:off x="0" y="822240"/>
            <a:ext cx="9144000" cy="6126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نْ لاَ يَطْلُعَ فَجْرُ هذِهِ الَّيْلَةِ اَوْ يَتَصَرَّمَ هذَا</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لشَّهْرُ الاَّ قَدْ غَفَرْتَهُ لِي يَا اَرْحَمَ الرَّاحِمِيْنَ</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للّهُمَّ لَكَ الْحَمْدُ بِمَحَامِدِكَ كُلِّهَا اوَّلِهَا وَآخِرِهَا</a:t>
            </a:r>
            <a:r>
              <a:rPr b="1" lang="ar-SA" sz="5500" spc="-1" strike="noStrike">
                <a:solidFill>
                  <a:srgbClr val="000000"/>
                </a:solidFill>
                <a:latin typeface="Times New Roman"/>
                <a:ea typeface="Traditional Arabic"/>
              </a:rPr>
              <a:t> </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4266720"/>
            <a:ext cx="8229600" cy="205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l-Arial"/>
                <a:ea typeface="Times New Roman"/>
              </a:rPr>
              <a:t>what You have said of it for Yourself, and what the creatures have said, the praises, the strugglers, the few, who have fulfilled Your remembrance and Your praise,</a:t>
            </a:r>
            <a:endParaRPr b="0" lang="en-US" sz="3200" spc="-1" strike="noStrike">
              <a:solidFill>
                <a:srgbClr val="000000"/>
              </a:solidFill>
              <a:latin typeface="Arial"/>
            </a:endParaRPr>
          </a:p>
        </p:txBody>
      </p:sp>
      <p:sp>
        <p:nvSpPr>
          <p:cNvPr id="50" name=""/>
          <p:cNvSpPr/>
          <p:nvPr/>
        </p:nvSpPr>
        <p:spPr>
          <a:xfrm>
            <a:off x="762120" y="593640"/>
            <a:ext cx="7619760" cy="6126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مَا قُلْتَ لِنَفْسِكَ مِنْهَا وَمَا قَالَ الْخَلاَئِقُ</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لْحَامِدُوْنَ الْمُجْتَهِدُوْنَ الْمَعْدُوْدُوْنَ</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لْمُوُفَّرُوْنَ ذِكْرَكَ وَشُكْرَكَ لَكَ</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3733920"/>
            <a:ext cx="8839440" cy="2743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l-Arial"/>
                <a:ea typeface="Times New Roman"/>
              </a:rPr>
              <a:t>those who You have helped to fulfil You right, among Your various creation, of the near angels, and the Prophets, and the Messengers. And the various utterers and those who glorify You,</a:t>
            </a:r>
            <a:endParaRPr b="0" lang="en-US" sz="3200" spc="-1" strike="noStrike">
              <a:solidFill>
                <a:srgbClr val="000000"/>
              </a:solidFill>
              <a:latin typeface="Arial"/>
            </a:endParaRPr>
          </a:p>
        </p:txBody>
      </p:sp>
      <p:sp>
        <p:nvSpPr>
          <p:cNvPr id="52" name=""/>
          <p:cNvSpPr/>
          <p:nvPr/>
        </p:nvSpPr>
        <p:spPr>
          <a:xfrm>
            <a:off x="0" y="698400"/>
            <a:ext cx="9144000" cy="6126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لَّذِيْنَ اَعَنْتَهُمْ عَلى اَدَاءِ حَقِّكَ مِنْ اَصْنَفِ خَلْقِكَ</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مِنَ الْمَلاَئِكَةِ الْمُقَرَّبِيْنَ وَالنَّبِيِّيْنَ وَالْمُرْسَلِيْنَ</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اَصْنَافِ النَّاطِقِيْنَ وَالْمُسَبِّحِيْنَ لَكَ</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3733560"/>
            <a:ext cx="9144000" cy="2895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l-Arial"/>
                <a:ea typeface="Times New Roman"/>
              </a:rPr>
              <a:t>from all of the worlds. You have made the month of Ramadan reach us, and given us of Your bounties, and we have Your provision and Your favour, and You apparent blessing</a:t>
            </a:r>
            <a:br>
              <a:rPr sz="3200"/>
            </a:br>
            <a:endParaRPr b="0" lang="en-US" sz="3200" spc="-1" strike="noStrike">
              <a:solidFill>
                <a:srgbClr val="000000"/>
              </a:solidFill>
              <a:latin typeface="Arial"/>
            </a:endParaRPr>
          </a:p>
        </p:txBody>
      </p:sp>
      <p:sp>
        <p:nvSpPr>
          <p:cNvPr id="54" name=""/>
          <p:cNvSpPr/>
          <p:nvPr/>
        </p:nvSpPr>
        <p:spPr>
          <a:xfrm>
            <a:off x="0" y="577800"/>
            <a:ext cx="9144000" cy="51213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مِنْ جَمِيْعِ الْعَالَمِيْنَ عَلى اَنََّكَ بَلَّغْتَنَا شَهْرَ رَمَضَانَ</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عَلَيْنَا مِنْ نِعَمِكَ وَعِنْدَمَا مِنْ قِسَمِكَ</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اِحِسَانِكَ وَتَظَاهُرِ امْتِنَانِكَ</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6320" y="3580920"/>
            <a:ext cx="8991360" cy="3048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l-Arial"/>
                <a:ea typeface="Times New Roman"/>
              </a:rPr>
              <a:t>So for that is ultimate praise for You, (Praise which is) for ever, continuous, tranquil, infinitely eternal, which does not finish for all times, exalted be Your praise.</a:t>
            </a:r>
            <a:endParaRPr b="0" lang="en-US" sz="3200" spc="-1" strike="noStrike">
              <a:solidFill>
                <a:srgbClr val="000000"/>
              </a:solidFill>
              <a:latin typeface="Arial"/>
            </a:endParaRPr>
          </a:p>
        </p:txBody>
      </p:sp>
      <p:sp>
        <p:nvSpPr>
          <p:cNvPr id="56" name=""/>
          <p:cNvSpPr/>
          <p:nvPr/>
        </p:nvSpPr>
        <p:spPr>
          <a:xfrm>
            <a:off x="152280" y="609480"/>
            <a:ext cx="8839440" cy="51213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فَبِذَالِكَ لَكَ مُنْتَهى الْحَمْدُ الْخَالِدِ الدَّآئِمِ</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لرَّاكِدِ الْمُخَلِّدِ السَّرْمَدِ الَّذِي لاَ يَنْفَدُ</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طُوْلَ الأَبَدِ جَلَّ ثَنَاؤُكَ</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886200"/>
            <a:ext cx="8229600" cy="2666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l-Arial"/>
                <a:ea typeface="Times New Roman"/>
              </a:rPr>
              <a:t>You helped us in it, until You fulfilled in it for us its fasts and rising for prayers in it,</a:t>
            </a:r>
            <a:br>
              <a:rPr sz="3200"/>
            </a:br>
            <a:r>
              <a:rPr b="1" lang="en-GB" sz="3200" spc="-1" strike="noStrike">
                <a:solidFill>
                  <a:srgbClr val="000000"/>
                </a:solidFill>
                <a:latin typeface="Al-Arial"/>
                <a:ea typeface="Times New Roman"/>
              </a:rPr>
              <a:t>and whatever we did in it of good, gratitude and remembrance.</a:t>
            </a:r>
            <a:endParaRPr b="0" lang="en-US" sz="3200" spc="-1" strike="noStrike">
              <a:solidFill>
                <a:srgbClr val="000000"/>
              </a:solidFill>
              <a:latin typeface="Arial"/>
            </a:endParaRPr>
          </a:p>
        </p:txBody>
      </p:sp>
      <p:sp>
        <p:nvSpPr>
          <p:cNvPr id="58" name=""/>
          <p:cNvSpPr/>
          <p:nvPr/>
        </p:nvSpPr>
        <p:spPr>
          <a:xfrm>
            <a:off x="0" y="685800"/>
            <a:ext cx="9144000" cy="4115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عَنْتَنَا عَلَيْهِ حَتّى قَضَيْتَ عَنَّا صِيَامَهُ وَقِيَامَهُ</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مِنْ صَلاَةٍ وَمَا كَانَ مِنَّا فِيْهِ مِنْ بِرٍّ اَوْ شُكْرٍ اوْ ذِكْرٍ</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1T12:35:22Z</dcterms:created>
  <dc:creator>Shia Ithna’sheri Community of Middlesex (Mahfil Ali)</dc:creator>
  <dc:description/>
  <dc:language>en-US</dc:language>
  <cp:lastModifiedBy>Kumail Versi</cp:lastModifiedBy>
  <dcterms:modified xsi:type="dcterms:W3CDTF">2009-09-17T12:41:16Z</dcterms:modified>
  <cp:revision>317</cp:revision>
  <dc:subject/>
  <dc:title>Dua Nudba</dc:title>
</cp:coreProperties>
</file>